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48D-25CA-4062-941C-3E9C9F22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ACA-D633-4824-B582-352EA30C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7EA-9D13-469C-A143-FF045213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E73-0549-400F-953A-81024E84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792-3CEB-4797-A30C-593D0315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5A3-72CE-406D-8E37-F1AFE762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72F-D1EF-4E2D-B03B-4A4373B3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A4A-290F-461C-96FE-43E5BF6E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EEB-DA33-4D3D-8C95-F6FCF3FD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61C-18CE-4D92-93EC-7D35D027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AFC-F42D-4AEB-8EA5-CE6F1ADB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BA3-F5C7-4720-A26F-2856EABF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C2F4-0F0F-4562-855D-0B6837429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89.imageshack.us/img89/6306/12ch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-316080"/>
            <a:ext cx="860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06715566"/>
          <p:cNvPicPr/>
          <p:nvPr/>
        </p:nvPicPr>
        <p:blipFill>
          <a:blip r:embed="rId1"/>
          <a:stretch/>
        </p:blipFill>
        <p:spPr>
          <a:xfrm>
            <a:off x="0" y="-110808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357120" y="-227520"/>
            <a:ext cx="8120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number of officers reduc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rom 355,000 to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0,0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f the army’s 1,187 units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ly 189 remai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0,000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aporschiki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re f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57120" y="400140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untitled12"/>
          <p:cNvPicPr/>
          <p:nvPr/>
        </p:nvPicPr>
        <p:blipFill>
          <a:blip r:embed="rId1"/>
          <a:stretch/>
        </p:blipFill>
        <p:spPr>
          <a:xfrm>
            <a:off x="-35712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only deterrent left for the country is its nuclear forces. As a result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bar has been lowered for when nuclear weapons might be u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844720" y="0"/>
            <a:ext cx="12239640" cy="6943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651640" y="76428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manage local confli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865080" y="2811960"/>
            <a:ext cx="100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3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paratrooper battal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2 airborne divi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4 army brigades (plus support un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ral squadrons of multifunctional air figh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vy fo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arines battalions and the Mistral helicopter-carr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277834732"/>
          <p:cNvPicPr/>
          <p:nvPr/>
        </p:nvPicPr>
        <p:blipFill>
          <a:blip r:embed="rId1"/>
          <a:stretch/>
        </p:blipFill>
        <p:spPr>
          <a:xfrm>
            <a:off x="0" y="-93600"/>
            <a:ext cx="9144000" cy="7230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w military-administrative di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571760" y="3571920"/>
            <a:ext cx="600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rom military distri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o united strategic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249297070"/>
          <p:cNvPicPr/>
          <p:nvPr/>
        </p:nvPicPr>
        <p:blipFill>
          <a:blip r:embed="rId1"/>
          <a:stretch/>
        </p:blipFill>
        <p:spPr>
          <a:xfrm>
            <a:off x="0" y="0"/>
            <a:ext cx="96440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57120" y="434160"/>
            <a:ext cx="821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organiz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of Armed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79280" y="464688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om division – regiment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rigade – battal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Картинка 18 из 18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0" y="18000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 order to effectively repel the terrorists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we 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o put together a group of at least 65,000 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but the combat ready units in the entire army c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o only 55,000 men,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nd they were scattered through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he entire coun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r armed forces came to a to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f 1,400,000 men but there wasn’t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ough men to fight. This is how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 kids who had never seen combat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before were sent in to f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 will not forget this e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nd it is our task today to make 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hat this never happens again.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Vladimir Pu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200409333"/>
          <p:cNvPicPr/>
          <p:nvPr/>
        </p:nvPicPr>
        <p:blipFill>
          <a:blip r:embed="rId1"/>
          <a:stretch/>
        </p:blipFill>
        <p:spPr>
          <a:xfrm>
            <a:off x="6480" y="26028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2268360" y="476280"/>
            <a:ext cx="66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total rejection of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ss mobilization conce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594680"/>
            <a:ext cx="1163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deepening of reforms will inevitab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e into conflict with the basic i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f the Putin reg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his imperial stereotyp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12358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9725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Demography vs. d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59054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240436835"/>
          <p:cNvPicPr/>
          <p:nvPr/>
        </p:nvPicPr>
        <p:blipFill>
          <a:blip r:embed="rId1"/>
          <a:stretch/>
        </p:blipFill>
        <p:spPr>
          <a:xfrm>
            <a:off x="-684360" y="-171360"/>
            <a:ext cx="9828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189000"/>
            <a:ext cx="129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active educated and modern-minded officer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468360" y="4508640"/>
            <a:ext cx="1068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ut  Putin’s social contract with people in uniform is 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n idea that ANY order have to be fulfille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контрактники"/>
          <p:cNvPicPr/>
          <p:nvPr/>
        </p:nvPicPr>
        <p:blipFill>
          <a:blip r:embed="rId1"/>
          <a:stretch/>
        </p:blipFill>
        <p:spPr>
          <a:xfrm>
            <a:off x="0" y="0"/>
            <a:ext cx="10333080" cy="679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11280" y="5184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rofessional NC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3840" y="4220280"/>
            <a:ext cx="645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pecialist or junior comma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"/>
          <p:cNvPicPr/>
          <p:nvPr/>
        </p:nvPicPr>
        <p:blipFill>
          <a:blip r:embed="rId1"/>
          <a:stretch/>
        </p:blipFill>
        <p:spPr>
          <a:xfrm>
            <a:off x="-285840" y="0"/>
            <a:ext cx="96440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Undeclared red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779640" y="3357360"/>
            <a:ext cx="47926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xt decade the real number of Russian Armed Forces will be 500 000 – 600 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5:11:37Z</dcterms:created>
  <dc:creator>sasha</dc:creator>
  <dc:description/>
  <dc:language>en-US</dc:language>
  <cp:lastModifiedBy>ыфы46</cp:lastModifiedBy>
  <dcterms:modified xsi:type="dcterms:W3CDTF">2013-04-12T10:55:02Z</dcterms:modified>
  <cp:revision>72</cp:revision>
  <dc:subject/>
  <dc:title>Слайд 1</dc:title>
</cp:coreProperties>
</file>