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7DF-C368-476E-BFFF-4CDFC2DC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B34-BCE2-49B3-8677-7A486C8B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E3E-6CA8-4783-ACAE-EDCD214D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FE8-746E-47B6-8D15-8565C221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FCC-99B8-4F71-A85C-51A87A92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881-D7E3-49F8-9E1C-D2782613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0E5-9A32-4C49-AA83-E950CB2B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E56-7822-4A90-B091-0668357E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948-A804-4B72-85B3-3C0FE18D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B28-3F7D-4E31-AAE7-414D691B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615B-7300-421B-A45F-9BCED15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19D-A339-4AE6-9C50-D3B2713F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65FA-579E-4685-84A7-5E601EFC3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89.imageshack.us/img89/6306/12ch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-316080"/>
            <a:ext cx="860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06715566"/>
          <p:cNvPicPr/>
          <p:nvPr/>
        </p:nvPicPr>
        <p:blipFill>
          <a:blip r:embed="rId1"/>
          <a:stretch/>
        </p:blipFill>
        <p:spPr>
          <a:xfrm>
            <a:off x="0" y="-1108080"/>
            <a:ext cx="9144000" cy="7966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357120" y="-227520"/>
            <a:ext cx="8120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number of officers reduc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rom 355,000 to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0,0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f the army’s 1,187 units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ly 189 remai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0,000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aporschiki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re f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57120" y="400140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untitled12"/>
          <p:cNvPicPr/>
          <p:nvPr/>
        </p:nvPicPr>
        <p:blipFill>
          <a:blip r:embed="rId1"/>
          <a:stretch/>
        </p:blipFill>
        <p:spPr>
          <a:xfrm>
            <a:off x="-35712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only deterrent left for the country is its nuclear forces. As a result,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bar has been lowered for when nuclear weapons might be u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844720" y="0"/>
            <a:ext cx="12239640" cy="6943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651640" y="76428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manage local confli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865080" y="2811960"/>
            <a:ext cx="100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3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paratrooper battal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(2 airborne divis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4 army brigades (plus support un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ral squadrons of multifunctional air figh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vy for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arines battalions and the Mistral helicopter-carr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277834732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723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w military-administrative di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571760" y="3571920"/>
            <a:ext cx="600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rom military distri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o united strategic com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249297070"/>
          <p:cNvPicPr/>
          <p:nvPr/>
        </p:nvPicPr>
        <p:blipFill>
          <a:blip r:embed="rId1"/>
          <a:stretch/>
        </p:blipFill>
        <p:spPr>
          <a:xfrm>
            <a:off x="0" y="0"/>
            <a:ext cx="96440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57120" y="434160"/>
            <a:ext cx="821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organ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of Armed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9280" y="4646880"/>
            <a:ext cx="61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om division – regiment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brigade – battal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Картинка 18 из 187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0" y="18000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n order to effectively repel the terrorists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we nee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o put together a group of at least 65,000 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ut the combat ready units in the entire army c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o only 55,000 men,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nd they were scattered through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he entire coun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r armed forces came to a to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f 1,400,000 men but there wasn’t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ough men to fight. This is how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 kids who had never seen combat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efore were sent in to f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 will not forget this e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nd it is our task today to make s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hat this never happens again. 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Vladimir Pu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200409333"/>
          <p:cNvPicPr/>
          <p:nvPr/>
        </p:nvPicPr>
        <p:blipFill>
          <a:blip r:embed="rId1"/>
          <a:stretch/>
        </p:blipFill>
        <p:spPr>
          <a:xfrm>
            <a:off x="6480" y="26028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2268360" y="476280"/>
            <a:ext cx="66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total rejection of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ss mobilization conce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594680"/>
            <a:ext cx="1163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deepening of reforms will inevitab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e into conflict with the basic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f the Putin reg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his imperial stereotype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12358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9725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emography vs. d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59054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240436835"/>
          <p:cNvPicPr/>
          <p:nvPr/>
        </p:nvPicPr>
        <p:blipFill>
          <a:blip r:embed="rId1"/>
          <a:stretch/>
        </p:blipFill>
        <p:spPr>
          <a:xfrm>
            <a:off x="-684360" y="-17136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189000"/>
            <a:ext cx="129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active educated and modern-minded officer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468360" y="4508640"/>
            <a:ext cx="1068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ut  Putin’s social contract with people in uniform is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n idea that ANY order have to be fulfille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контрактники"/>
          <p:cNvPicPr/>
          <p:nvPr/>
        </p:nvPicPr>
        <p:blipFill>
          <a:blip r:embed="rId1"/>
          <a:stretch/>
        </p:blipFill>
        <p:spPr>
          <a:xfrm>
            <a:off x="0" y="0"/>
            <a:ext cx="10333080" cy="679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11280" y="5184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rofessional NC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3840" y="4220280"/>
            <a:ext cx="645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ecialist or junior comma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"/>
          <p:cNvPicPr/>
          <p:nvPr/>
        </p:nvPicPr>
        <p:blipFill>
          <a:blip r:embed="rId1"/>
          <a:stretch/>
        </p:blipFill>
        <p:spPr>
          <a:xfrm>
            <a:off x="-285840" y="0"/>
            <a:ext cx="96440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Undeclared re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79640" y="3357360"/>
            <a:ext cx="479268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xt decade the real number of Russian Armed Forces will be 500 000 – 600 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5:11:37Z</dcterms:created>
  <dc:creator>sasha</dc:creator>
  <dc:description/>
  <dc:language>en-US</dc:language>
  <cp:lastModifiedBy>ыфы46</cp:lastModifiedBy>
  <dcterms:modified xsi:type="dcterms:W3CDTF">2013-04-12T10:55:02Z</dcterms:modified>
  <cp:revision>72</cp:revision>
  <dc:subject/>
  <dc:title>Слайд 1</dc:title>
</cp:coreProperties>
</file>