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D2E9-90D2-46E0-9A62-1078CCF7B3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2246-3C69-4F2B-AB76-8B558BD313F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5987-64F8-4F5B-BDF5-889A159295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505-7DF5-4C34-B8F7-4317A85718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9977-272C-48C7-AE65-6596EF2F990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EC46-6241-4791-94D2-F856383C9F2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0D81-6DB1-4E6F-B8B0-E7F8A14590F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5FD4-B78E-4524-8155-D44A4ACA35A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D8FC-36F1-4CCE-A8F9-AC7E94AC856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2EBC-45D9-40F8-B802-90110668914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BE87-7A3D-4988-9ED7-A71BC41531E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4DA2-DB63-4D2A-94B5-2D99659FE7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F1DB-6990-4173-A921-06C95A13173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1F23-9E2D-40DD-A1FC-F82F6CE51B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E484-FA88-4143-B150-B73D5164E7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33B4-24A0-4749-98A2-CFFB872D230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979-FDCF-46CE-8D9F-714C76091AA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35B-007C-4F66-9E09-AB2C6A4472C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947-24EF-4C13-B92F-4F4DAA90B97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5621-8E14-4D9B-9342-7B5FD0A7985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5E10-A9DD-454C-878D-0A51DB3A24B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499-3E52-412F-A4D9-314587D370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9DB3-B8F1-4180-AB9B-80934F9C45A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B24-B601-4045-A15D-1092156D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91A-34F7-4348-8A0D-75A7D4AF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886-976B-4E92-8453-63695FC0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0AA-437C-413D-8D68-CAF30891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C34-7805-47A1-8E57-4DA1EAB6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5838-F84F-4D61-AC9A-E29FA8C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3B07-2B99-4CAD-A531-47C7B7D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8B58-21F9-40FA-8553-87434501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FDDA-4969-41FC-8FA0-B72B9CCC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06CC-87C2-4939-A4AF-C853EA8F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769E-68BC-4B24-A9D1-375C6AC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21B-9AD7-425E-A76B-F986CF8D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11F5-B632-4DAD-863B-3C3D27F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B55B-942A-4E46-B004-D2F5C76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1D86-B7BB-4681-AE11-34D7B52C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A4B8-3B3F-4C2E-886D-CF850CF8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FECC-D49E-40C2-A551-A3511B0A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383-AF3C-4CB8-B380-C043E14D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00C-D097-496C-B988-880C9735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06A-7007-420F-A1D9-9A47C59B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D6B-F124-4762-A410-DCB95B80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917-F9E8-4501-8BBA-17E3069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BD5-BD35-4360-BB34-1293CF9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62D-AEFD-41B8-A6E7-94171FF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9DC-0D4B-437C-A2F4-C0E67C16B2E0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E82D-B4DD-41EE-9BF4-95C90285DE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DAE8-B50B-41FB-9CCB-9729B01914D4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EC0-7AFD-4080-8096-6292E90DEFA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1f497d"/>
                </a:solidFill>
                <a:latin typeface="Arial Narrow"/>
              </a:rPr>
              <a:t>Italy’s Strategy for Fiscal Consolidation and Growt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39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Italian Gover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vember 2011- Jul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more competitive economy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bolition of minimum fees f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rofessional services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; increase in number of professionals (e.g. notaries, pharmacies, tax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pin-off of gas network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SNAM from incumbent gas supplier; more competition also in transport and other network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an of same sector multiple board membership  (e.g. financi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 Narrow"/>
              </a:rPr>
              <a:t>Deregulation of retailers’ opening </a:t>
            </a:r>
            <a:r>
              <a:rPr b="1" lang="it-IT" sz="2400" spc="-1" strike="noStrike">
                <a:solidFill>
                  <a:srgbClr val="1f497d"/>
                </a:solidFill>
                <a:latin typeface="Arial Narrow"/>
              </a:rPr>
              <a:t>h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Greater freedom f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etrol station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o source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upplies of oil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nd products sold in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onvenience st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37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0B0F-A579-4BFA-8736-4F34EB6C777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8786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: more efficient, less costly administration (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8000" y="1093320"/>
            <a:ext cx="892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Most administrative procedures by citizens and firms carried out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online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cluding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mpler, faster and more transparent procedures f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ublic tenders.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Public administration’s supplies of goods and services must go through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entral-purchas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Creation of limited liability companies made easier and cheap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ll local public services submitted to open, public tenders; privatization of firms that derive more than 90% of sales from controlling administ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Public sector employees to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decrease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y 10% (20% at managerial level);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holidays must be taken or are lost (cannot be ‘monetized’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erritorial reorganisation (near elimination of provinces in some cases  replaced by leaner, more efficient metropolitan are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Liberalization measures and administrative reform to increase growth by a cumulative 2.4% between 2012 and 2020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44" name="Titolo 1"/>
          <p:cNvSpPr/>
          <p:nvPr/>
        </p:nvSpPr>
        <p:spPr>
          <a:xfrm>
            <a:off x="250920" y="4428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F112-17AA-4C86-BC97-CBA500914CC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8786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speedier, reinforced justice (3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8000" y="1093320"/>
            <a:ext cx="892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Creation of a special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ourt to handle business disput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Reduction in number of small court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o increase efficiency and cu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Trial length: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rials should not last more than 3 years in first stage, 2 years in appeal and 1 year at the Supreme Court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.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dditional years will give rise to set compensation am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Reinforcement of anti-corrup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Rule of law strengthened,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n particular through increase in penalties for corruption of judicial proceed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52" name="Titolo 1"/>
          <p:cNvSpPr/>
          <p:nvPr/>
        </p:nvSpPr>
        <p:spPr>
          <a:xfrm>
            <a:off x="0" y="214200"/>
            <a:ext cx="8786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636B-90E2-4346-A6C2-BD21102EEC9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more flexible and fair labour market (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14200" y="114300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efore the reform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: low labour market exit flexibility, weak social safety net, insiders/outsiders dualism, generation and gender segmentation, geographical divide (North/So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Unemployment benefit system for all, but less genero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Active labour market policies to improve job placement and increase incentives to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etter regulation on hiring side to make flexible, open-ended contracts the norm and apprenticeships the main market entry chann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60" name="Titolo 1"/>
          <p:cNvSpPr/>
          <p:nvPr/>
        </p:nvSpPr>
        <p:spPr>
          <a:xfrm>
            <a:off x="357120" y="285840"/>
            <a:ext cx="878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0B1A-E2AC-42CE-B039-DF3FB1BD53F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more flexible and fair labour market (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14200" y="107172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Reform introduces a fast, compulsory, out-of-court settlement procedure to handle disputed dismissals for economic or other objective reasons. If conciliation fails a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f economic dismissal not justified, the compensation will be capped at 24 month wages. No limit bef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f reasons found ‘clearly non-existent’, a judge may decide for reintegration of worker plus a maximum 12 month wages compensation. Also no compensation limit before. Firms no longer obliged to pay social contribution arr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68" name="Titolo 1"/>
          <p:cNvSpPr/>
          <p:nvPr/>
        </p:nvSpPr>
        <p:spPr>
          <a:xfrm>
            <a:off x="357120" y="21420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7038-9A86-48D7-A2ED-0A1637AB0D2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Short-term measures for growt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14200" y="107172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On top of reforms, great emphasis was put on growth-friendly consolidation and, whenever possible, on measures for growth and job creation, namel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Lower taxes on reinvested capital and hiring young people and wom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Government guarantees to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foster SMEs access to cred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Acceleration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payment of late bill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to public administration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ridging of digital divide and spreading of ultrafast broadb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etter R&amp;D support schemes; improved academia-business cooperation to achieve quality research; tax credits for hiring young researc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creased funds for, and streamlined approvals of, infrastructure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76" name="Titolo 1"/>
          <p:cNvSpPr/>
          <p:nvPr/>
        </p:nvSpPr>
        <p:spPr>
          <a:xfrm>
            <a:off x="357120" y="21420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BD3-159C-4A9B-91A8-5EE693E6FB6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Euro area crisis is harming the econom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14200" y="107172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The excessively-high financing costs, due to the perceived euro area risk, and the budgetary contraction are having negative effects on the econom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Recession in 2012 could be -2.0%, according to recent forecast by Bank of Italy versus -1.2% in the government’s April Stability Programme         (-1.9% in IMF’s spring foreca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MF estimates Italy’s interest rates are 200 basis points higher that economic fundamentals suggest. Each 100 bp costs additional €20 billion in debt servicing costs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Companies are also seeing their financing costs growing more than is justified by their balance sheets, simply as they reflect Sovereign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84" name="Titolo 1"/>
          <p:cNvSpPr/>
          <p:nvPr/>
        </p:nvSpPr>
        <p:spPr>
          <a:xfrm>
            <a:off x="250920" y="4428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Crisis and Italy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Italy’s budgetary consolidation at a g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umulative budgetary consolidation effort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of €80 billion, 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5% of GDP,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 between July 2011 and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o achieve a budget deficit of 1.7% in 2012 after a result of -3.9% in 2011. This means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rimary balance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(before debt service costs)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3.5%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General government account on balance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, in structural terms,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i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Debt to start decreasing in 2013 from a forecast of 123.4% in 20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 full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3 percentage points of GDP represent Italy’s share of the assistance to GR, IE and PT as well as ESM capit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94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715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Modest deterioration in Italy’s public deficit during the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99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Crisis and Italy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0" y="1143000"/>
            <a:ext cx="8786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715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Debt-to-GDP increased mainly due to economic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05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Crisis and Italy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3"/>
          <a:stretch/>
        </p:blipFill>
        <p:spPr>
          <a:xfrm>
            <a:off x="0" y="1071720"/>
            <a:ext cx="8515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715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Primary surplus at 5% of GDP or above from 2014 onwards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11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324000" y="1247760"/>
            <a:ext cx="842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Main budgetary consolidation meas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Re-introduction of a property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 tax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(IM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Higher excise duties on fuel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taxation of luxury goo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Sizeable savings from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ension reform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hat rises statutory retirement age (SRA) to 66 years in 2012 (further increase to 67 already in law);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utomatically indexe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SRA to future gains in life expectancy; an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urtails early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ll but mod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t pensions frozen in 2012-1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Reduction in social security and local government spending, namely through a territorial reorganization (abolition of many provinc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17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A spending review to increase quality of public fin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fter a thorough review of public spending, the government in June announce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avings of €26 billion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etween 2012-2014. Such savings will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revent the increase by two points of the 10% and 21% VAT rates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, which would have been the second increase in one year and further depressed consumption and economic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he savings will come from sourcing all purchases of services and goods through a central-purchasing agency; reducing public sector employees and territorial organization, among other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More savings to be announced soon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s the government carries a review of business incentives and the financing of political pa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22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Fight against tax eva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Ban on cash payments of €1,000 or mor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ax evasion or misreporting of taxes  becomes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riminal off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ncreased surprise, targeted spot checks for search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undeclared revenue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VAT frauds.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ut less intrusive controls for citizens and firms seen complying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ncreased crackdown on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undeclared work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hrough a closer cooperation with the authority that collects salary-linked social security contrib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27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Measures to reduce debt f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t least €10 billion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expected in 2012 from </a:t>
            </a:r>
            <a:r>
              <a:rPr b="0" i="1" lang="en-US" sz="2400" spc="-1" strike="noStrike">
                <a:solidFill>
                  <a:srgbClr val="1f497d"/>
                </a:solidFill>
                <a:latin typeface="Arial Narrow"/>
              </a:rPr>
              <a:t>Cassa Depositi e Prestiti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(CDC) purchase, at market prices,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government shares in Fintecna, SACE and SIMEST.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 CDC to advance 60% of the estimated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Real estate properties, including military barracks, worth an estimated €1.5 billion transferred to a real estate fund with the aim of selling properties or create value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Planned State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nd local property disposal is expected to yield €15-20 billion revenues over 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32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9:15:35Z</dcterms:created>
  <dc:creator>casarno</dc:creator>
  <dc:description/>
  <dc:language>en-US</dc:language>
  <cp:lastModifiedBy>Halttu Janne</cp:lastModifiedBy>
  <dcterms:modified xsi:type="dcterms:W3CDTF">2012-08-02T08:07:48Z</dcterms:modified>
  <cp:revision>109</cp:revision>
  <dc:subject/>
  <dc:title>Sustainable Growth Measures</dc:title>
</cp:coreProperties>
</file>