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512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8EE6-A81C-4E7C-B6E3-54FADE02A5C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egnaposto numero diapositiva 3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3BA9-AA93-4A6B-A3A6-F4FA2399456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egnaposto numero diapositiva 3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E9D6-381E-42E3-86A3-5640336E0B6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egnaposto numero diapositiva 3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E801-314F-48BA-B45E-B37FD2A8F07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egnaposto numero diapositiva 4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44E0-237A-4202-9055-B6607AAC848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egnaposto numero diapositiva 3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A6D5-E78E-48A4-84B3-93CFB3A7695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egnaposto numero diapositiva 4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CCAC-EA86-4343-BD54-B3A95559912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egnaposto numero diapositiva 3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0361-BAA0-4B0F-A0D1-E1D0266ECDE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egnaposto numero diapositiva 4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1D92-59D6-4C81-A45C-11AC5D5BFA2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egnaposto numero diapositiva 3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C246-FD6B-45C4-883D-47188C3FA57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egnaposto numero diapositiva 4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DF9D-A591-4D2C-A5A8-6B8941A46F7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egnaposto numero diapositiva 3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C1AC-A1E0-4B96-973F-37FFADAAEF5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egnaposto numero diapositiva 4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07DB-4485-4E9B-B48E-449D534D0FD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egnaposto numero diapositiva 3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EBC8-917B-4BE4-B9F1-764AB4C911B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egnaposto numero diapositiva 4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4A36-B16B-4FFD-9FE9-1D8877433B8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egnaposto numero diapositiva 3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4664-135F-4F2C-87ED-81AF64AB217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egnaposto numero diapositiva 3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F893-38AA-4B42-B025-C59ACFDDB4A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egnaposto numero diapositiva 3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7138-D5D6-4876-A54F-75C37E82E18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egnaposto numero diapositiva 3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342E-125F-43CE-A93C-E7A230C76B0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egnaposto numero diapositiva 3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1514-BE34-442F-8AF6-912D0E4356D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egnaposto numero diapositiva 3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CA42-0EB5-45BD-8CA4-B72150BF695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egnaposto numero diapositiva 3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FC7E6-1A2B-4A63-AE9C-5BEDA045B83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egnaposto numero diapositiva 3"/>
          <p:cNvSpPr/>
          <p:nvPr/>
        </p:nvSpPr>
        <p:spPr>
          <a:xfrm>
            <a:off x="4022640" y="9720360"/>
            <a:ext cx="30751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10E9-8566-4293-8295-3B80A62F68A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F9C6-3EEE-44CE-BB21-1B3370E88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5C96-AB29-41B2-84CC-44ED1050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F760-D435-402C-9399-F486A8927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7C95-5A22-4539-82E1-279FB8D08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B194-DBBE-4FAA-989A-142E88FCF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6952-0AC1-4279-9021-FF635F84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5E96-A0EC-40D0-A38C-AC8137A0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30158-AA8C-4363-BFC5-29BB95CA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BE83-996D-4F57-8687-7519AB08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0F92-B317-4313-80A7-D9F9883B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0F1D-3614-46AC-B757-D8FE7BD1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9CFF-2821-4A8D-AB6C-B1645A26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7D9A-8329-452C-A39B-578F438E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78CA-F9E9-47CC-A100-A7126A31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A078-D5B0-44F7-BE29-A2249937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6DA9-0F45-421A-9D2E-094FF5C6F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2129-5B5B-4FC9-95D9-D278F9B56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6BB8-973E-45ED-90A5-4E1E854B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6E2A-5C9D-4111-A7C7-0CB44786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D0FC-FDB4-462A-B26D-3FC2385E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D2F5-4777-4CD1-B5CE-8DDB245D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B8FF-A591-49FA-BF01-D8C8E95B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BE6F-02EF-4E26-8715-2ECEAE3A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3E2D-EFF9-48BB-B892-7C465725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7B3E-203A-4020-A34D-825644F84BB7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BBC2-04BA-40CB-97B2-351C4A3146E6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9A1E-88D2-44F6-B205-93422B3A2384}" type="datetime">
              <a:rPr b="0" lang="it-IT" sz="14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7B3D-B878-488D-AAB8-23FD452C14D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it-IT" sz="4400" spc="-1" strike="noStrike">
                <a:solidFill>
                  <a:srgbClr val="1f497d"/>
                </a:solidFill>
                <a:latin typeface="Arial Narrow"/>
              </a:rPr>
              <a:t>Italy’s Strategy for Fiscal Consolidation and Growth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239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98989"/>
                </a:solidFill>
                <a:latin typeface="Calibri"/>
              </a:rPr>
              <a:t>Italian Govern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November 2011- July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Immagine 3" descr="logo_ovale_prova"/>
          <p:cNvPicPr/>
          <p:nvPr/>
        </p:nvPicPr>
        <p:blipFill>
          <a:blip r:embed="rId1"/>
          <a:stretch/>
        </p:blipFill>
        <p:spPr>
          <a:xfrm>
            <a:off x="2286000" y="5786280"/>
            <a:ext cx="474804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14200" y="876240"/>
            <a:ext cx="8715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f497d"/>
                </a:solidFill>
                <a:uFillTx/>
                <a:latin typeface="Arial Narrow"/>
              </a:rPr>
              <a:t>Reforms for growth: a more competitive economy (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277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Abolition of minimum fees for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professional services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; increase in number of professionals (e.g. notaries, pharmacies, taxi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277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Spin-off of gas network 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SNAM from incumbent gas supplier; more competition also in transport and other network sec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277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Ban of same sector multiple board membership  (e.g. financial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277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f497d"/>
                </a:solidFill>
                <a:latin typeface="Arial Narrow"/>
              </a:rPr>
              <a:t>Deregulation of retailers’ opening </a:t>
            </a:r>
            <a:r>
              <a:rPr b="1" lang="it-IT" sz="2400" spc="-1" strike="noStrike">
                <a:solidFill>
                  <a:srgbClr val="1f497d"/>
                </a:solidFill>
                <a:latin typeface="Arial Narrow"/>
              </a:rPr>
              <a:t>hou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277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Greater freedom for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petrol stations 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to source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supplies of oil 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and products sold in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convenience st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277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Immagine 3" descr="logo_ovale_prova"/>
          <p:cNvPicPr/>
          <p:nvPr/>
        </p:nvPicPr>
        <p:blipFill>
          <a:blip r:embed="rId1"/>
          <a:stretch/>
        </p:blipFill>
        <p:spPr>
          <a:xfrm>
            <a:off x="2286000" y="5786280"/>
            <a:ext cx="4748040" cy="862200"/>
          </a:xfrm>
          <a:prstGeom prst="rect">
            <a:avLst/>
          </a:prstGeom>
          <a:ln w="0">
            <a:noFill/>
          </a:ln>
        </p:spPr>
      </p:pic>
      <p:sp>
        <p:nvSpPr>
          <p:cNvPr id="137" name="Titolo 1"/>
          <p:cNvSpPr/>
          <p:nvPr/>
        </p:nvSpPr>
        <p:spPr>
          <a:xfrm>
            <a:off x="250920" y="117360"/>
            <a:ext cx="87868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830920">
              <a:lnSpc>
                <a:spcPct val="100000"/>
              </a:lnSpc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1f497d"/>
                </a:solidFill>
                <a:latin typeface="Arial Narrow"/>
              </a:rPr>
              <a:t>Growth: primary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7"/>
          <p:cNvSpPr/>
          <p:nvPr/>
        </p:nvSpPr>
        <p:spPr>
          <a:xfrm>
            <a:off x="179280" y="549360"/>
            <a:ext cx="882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logo mef"/>
          <p:cNvPicPr/>
          <p:nvPr/>
        </p:nvPicPr>
        <p:blipFill>
          <a:blip r:embed="rId2"/>
          <a:stretch/>
        </p:blipFill>
        <p:spPr>
          <a:xfrm>
            <a:off x="285840" y="0"/>
            <a:ext cx="6429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egnaposto numero diapositiva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F67A-AAFD-41CB-87E9-CDD4C408FB5B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2920" y="714240"/>
            <a:ext cx="87868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f497d"/>
                </a:solidFill>
                <a:uFillTx/>
                <a:latin typeface="Arial Narrow"/>
              </a:rPr>
              <a:t>Reforms : more efficient, less costly administration (2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08000" y="1093320"/>
            <a:ext cx="8928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8920" indent="-35892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Most administrative procedures by citizens and firms carried out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online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, 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including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s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impler, faster and more transparent procedures for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public tenders. 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Public administration’s supplies of goods and services must go through a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central-purchasing ag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Creation of limited liability companies made easier and cheap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All local public services submitted to open, public tenders; privatization of firms that derive more than 90% of sales from controlling administr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Public sector employees to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decrease 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by 10% (20% at managerial level);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holidays must be taken or are lost (cannot be ‘monetized’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Territorial reorganisation (near elimination of provinces in some cases  replaced by leaner, more efficient metropolitan area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Liberalization measures and administrative reform to increase growth by a cumulative 2.4% between 2012 and 2020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Immagine 3" descr="logo_ovale_prova"/>
          <p:cNvPicPr/>
          <p:nvPr/>
        </p:nvPicPr>
        <p:blipFill>
          <a:blip r:embed="rId1"/>
          <a:stretch/>
        </p:blipFill>
        <p:spPr>
          <a:xfrm>
            <a:off x="2286000" y="5786280"/>
            <a:ext cx="4748040" cy="862200"/>
          </a:xfrm>
          <a:prstGeom prst="rect">
            <a:avLst/>
          </a:prstGeom>
          <a:ln w="0">
            <a:noFill/>
          </a:ln>
        </p:spPr>
      </p:pic>
      <p:sp>
        <p:nvSpPr>
          <p:cNvPr id="144" name="Titolo 1"/>
          <p:cNvSpPr/>
          <p:nvPr/>
        </p:nvSpPr>
        <p:spPr>
          <a:xfrm>
            <a:off x="250920" y="44280"/>
            <a:ext cx="87868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830920">
              <a:lnSpc>
                <a:spcPct val="100000"/>
              </a:lnSpc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1f497d"/>
                </a:solidFill>
                <a:latin typeface="Arial Narrow"/>
              </a:rPr>
              <a:t>Growth: primary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179280" y="549360"/>
            <a:ext cx="882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egnaposto piè di pagina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8" descr="logo mef"/>
          <p:cNvPicPr/>
          <p:nvPr/>
        </p:nvPicPr>
        <p:blipFill>
          <a:blip r:embed="rId2"/>
          <a:stretch/>
        </p:blipFill>
        <p:spPr>
          <a:xfrm>
            <a:off x="285840" y="0"/>
            <a:ext cx="6429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egnaposto numero diapositiva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5B7A-E68B-4BF7-82B5-62D02B8854C6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2920" y="714240"/>
            <a:ext cx="87868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f497d"/>
                </a:solidFill>
                <a:uFillTx/>
                <a:latin typeface="Arial Narrow"/>
              </a:rPr>
              <a:t>Reforms for growth: a speedier, reinforced justice (3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08000" y="1093320"/>
            <a:ext cx="8928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8920" indent="-35892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Creation of a special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court to handle business disput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Reduction in number of small courts 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to increase efficiency and cut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Trial length: 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trials should not last more than 3 years in first stage, 2 years in appeal and 1 year at the Supreme Court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. 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Additional years will give rise to set compensation amou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Reinforcement of anti-corruption meas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Rule of law strengthened, 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in particular through increase in penalties for corruption of judicial proceeding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Immagine 3" descr="logo_ovale_prova"/>
          <p:cNvPicPr/>
          <p:nvPr/>
        </p:nvPicPr>
        <p:blipFill>
          <a:blip r:embed="rId1"/>
          <a:stretch/>
        </p:blipFill>
        <p:spPr>
          <a:xfrm>
            <a:off x="2286000" y="5786280"/>
            <a:ext cx="4748040" cy="862200"/>
          </a:xfrm>
          <a:prstGeom prst="rect">
            <a:avLst/>
          </a:prstGeom>
          <a:ln w="0">
            <a:noFill/>
          </a:ln>
        </p:spPr>
      </p:pic>
      <p:sp>
        <p:nvSpPr>
          <p:cNvPr id="152" name="Titolo 1"/>
          <p:cNvSpPr/>
          <p:nvPr/>
        </p:nvSpPr>
        <p:spPr>
          <a:xfrm>
            <a:off x="0" y="214200"/>
            <a:ext cx="87868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1f497d"/>
                </a:solidFill>
                <a:latin typeface="Arial Narrow"/>
              </a:rPr>
              <a:t>Growth: primary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6"/>
          <p:cNvSpPr/>
          <p:nvPr/>
        </p:nvSpPr>
        <p:spPr>
          <a:xfrm>
            <a:off x="179280" y="549360"/>
            <a:ext cx="882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egnaposto piè di pagina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8" descr="logo mef"/>
          <p:cNvPicPr/>
          <p:nvPr/>
        </p:nvPicPr>
        <p:blipFill>
          <a:blip r:embed="rId2"/>
          <a:stretch/>
        </p:blipFill>
        <p:spPr>
          <a:xfrm>
            <a:off x="285840" y="0"/>
            <a:ext cx="6429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egnaposto numero diapositiva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F444-690F-4A87-94C6-5FDB11B63D6E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54900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1f497d"/>
                </a:solidFill>
                <a:uFillTx/>
                <a:latin typeface="Arial Narrow"/>
              </a:rPr>
              <a:t>Reforms for growth: a more flexible and fair labour market (4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214200" y="1143000"/>
            <a:ext cx="860760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Before the reform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: low labour market exit flexibility, weak social safety net, insiders/outsiders dualism, generation and gender segmentation, geographical divide (North/Sout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Unemployment benefit system for all, but less generou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Active labour market policies to improve job placement and increase incentives to wor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Better regulation on hiring side to make flexible, open-ended contracts the norm and apprenticeships the main market entry chann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Immagine 3" descr="logo_ovale_prova"/>
          <p:cNvPicPr/>
          <p:nvPr/>
        </p:nvPicPr>
        <p:blipFill>
          <a:blip r:embed="rId1"/>
          <a:stretch/>
        </p:blipFill>
        <p:spPr>
          <a:xfrm>
            <a:off x="2286000" y="5786280"/>
            <a:ext cx="4748040" cy="862200"/>
          </a:xfrm>
          <a:prstGeom prst="rect">
            <a:avLst/>
          </a:prstGeom>
          <a:ln w="0">
            <a:noFill/>
          </a:ln>
        </p:spPr>
      </p:pic>
      <p:sp>
        <p:nvSpPr>
          <p:cNvPr id="160" name="Titolo 1"/>
          <p:cNvSpPr/>
          <p:nvPr/>
        </p:nvSpPr>
        <p:spPr>
          <a:xfrm>
            <a:off x="357120" y="285840"/>
            <a:ext cx="87868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1f497d"/>
                </a:solidFill>
                <a:latin typeface="Arial Narrow"/>
              </a:rPr>
              <a:t>Growth: primary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6"/>
          <p:cNvSpPr/>
          <p:nvPr/>
        </p:nvSpPr>
        <p:spPr>
          <a:xfrm>
            <a:off x="179280" y="549360"/>
            <a:ext cx="882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egnaposto piè di pagina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8" descr="logo mef"/>
          <p:cNvPicPr/>
          <p:nvPr/>
        </p:nvPicPr>
        <p:blipFill>
          <a:blip r:embed="rId2"/>
          <a:stretch/>
        </p:blipFill>
        <p:spPr>
          <a:xfrm>
            <a:off x="285840" y="0"/>
            <a:ext cx="6429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egnaposto numero diapositiva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1174-6696-443E-A8F5-86E86E51895A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280" y="54900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1f497d"/>
                </a:solidFill>
                <a:uFillTx/>
                <a:latin typeface="Arial Narrow"/>
              </a:rPr>
              <a:t>Reforms for growth: a more flexible and fair labour market (5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214200" y="1071720"/>
            <a:ext cx="860760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Reform introduces a fast, compulsory, out-of-court settlement procedure to handle disputed dismissals for economic or other objective reasons. If conciliation fails an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if economic dismissal not justified, the compensation will be capped at 24 month wages. No limit befo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if reasons found ‘clearly non-existent’, a judge may decide for reintegration of worker plus a maximum 12 month wages compensation. Also no compensation limit before. Firms no longer obliged to pay social contribution arrear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Immagine 3" descr="logo_ovale_prova"/>
          <p:cNvPicPr/>
          <p:nvPr/>
        </p:nvPicPr>
        <p:blipFill>
          <a:blip r:embed="rId1"/>
          <a:stretch/>
        </p:blipFill>
        <p:spPr>
          <a:xfrm>
            <a:off x="2286000" y="5786280"/>
            <a:ext cx="4748040" cy="862200"/>
          </a:xfrm>
          <a:prstGeom prst="rect">
            <a:avLst/>
          </a:prstGeom>
          <a:ln w="0">
            <a:noFill/>
          </a:ln>
        </p:spPr>
      </p:pic>
      <p:sp>
        <p:nvSpPr>
          <p:cNvPr id="168" name="Titolo 1"/>
          <p:cNvSpPr/>
          <p:nvPr/>
        </p:nvSpPr>
        <p:spPr>
          <a:xfrm>
            <a:off x="357120" y="214200"/>
            <a:ext cx="87868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1f497d"/>
                </a:solidFill>
                <a:latin typeface="Arial Narrow"/>
              </a:rPr>
              <a:t>Growth: primary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179280" y="549360"/>
            <a:ext cx="882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egnaposto piè di pagina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8" descr="logo mef"/>
          <p:cNvPicPr/>
          <p:nvPr/>
        </p:nvPicPr>
        <p:blipFill>
          <a:blip r:embed="rId2"/>
          <a:stretch/>
        </p:blipFill>
        <p:spPr>
          <a:xfrm>
            <a:off x="285840" y="0"/>
            <a:ext cx="6429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egnaposto numero diapositiva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9DED-5D8B-4059-B877-A8A0EB8CB3E8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54900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1f497d"/>
                </a:solidFill>
                <a:uFillTx/>
                <a:latin typeface="Arial Narrow"/>
              </a:rPr>
              <a:t>Short-term measures for growth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214200" y="1071720"/>
            <a:ext cx="860760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On top of reforms, great emphasis was put on growth-friendly consolidation and, whenever possible, on measures for growth and job creation, namel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Lower taxes on reinvested capital and hiring young people and wom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Government guarantees to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foster SMEs access to credi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Acceleration of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payment of late bills 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to public administration suppli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Bridging of digital divide and spreading of ultrafast broadb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Better R&amp;D support schemes; improved academia-business cooperation to achieve quality research; tax credits for hiring young research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Increased funds for, and streamlined approvals of, infrastructure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Immagine 3" descr="logo_ovale_prova"/>
          <p:cNvPicPr/>
          <p:nvPr/>
        </p:nvPicPr>
        <p:blipFill>
          <a:blip r:embed="rId1"/>
          <a:stretch/>
        </p:blipFill>
        <p:spPr>
          <a:xfrm>
            <a:off x="2286000" y="5786280"/>
            <a:ext cx="4748040" cy="862200"/>
          </a:xfrm>
          <a:prstGeom prst="rect">
            <a:avLst/>
          </a:prstGeom>
          <a:ln w="0">
            <a:noFill/>
          </a:ln>
        </p:spPr>
      </p:pic>
      <p:sp>
        <p:nvSpPr>
          <p:cNvPr id="176" name="Titolo 1"/>
          <p:cNvSpPr/>
          <p:nvPr/>
        </p:nvSpPr>
        <p:spPr>
          <a:xfrm>
            <a:off x="357120" y="214200"/>
            <a:ext cx="87868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1f497d"/>
                </a:solidFill>
                <a:latin typeface="Arial Narrow"/>
              </a:rPr>
              <a:t>Growth: primary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6"/>
          <p:cNvSpPr/>
          <p:nvPr/>
        </p:nvSpPr>
        <p:spPr>
          <a:xfrm>
            <a:off x="179280" y="549360"/>
            <a:ext cx="882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egnaposto piè di pagina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logo mef"/>
          <p:cNvPicPr/>
          <p:nvPr/>
        </p:nvPicPr>
        <p:blipFill>
          <a:blip r:embed="rId2"/>
          <a:stretch/>
        </p:blipFill>
        <p:spPr>
          <a:xfrm>
            <a:off x="285840" y="0"/>
            <a:ext cx="6429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egnaposto numero diapositiva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9BA0-5FF6-4976-9A92-BCB75F81E927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280" y="54900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1f497d"/>
                </a:solidFill>
                <a:uFillTx/>
                <a:latin typeface="Arial Narrow"/>
              </a:rPr>
              <a:t>Euro area crisis is harming the economy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214200" y="1071720"/>
            <a:ext cx="860760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The excessively-high financing costs, due to the perceived euro area risk, and the budgetary contraction are having negative effects on the econom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Recession in 2012 could be -2.0%, according to recent forecast by Bank of Italy versus -1.2% in the government’s April Stability Programme         (-1.9% in IMF’s spring forecas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IMF estimates Italy’s interest rates are 200 basis points higher that economic fundamentals suggest. Each 100 bp costs additional €20 billion in debt servicing costs over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Companies are also seeing their financing costs growing more than is justified by their balance sheets, simply as they reflect Sovereign cos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Immagine 3" descr="logo_ovale_prova"/>
          <p:cNvPicPr/>
          <p:nvPr/>
        </p:nvPicPr>
        <p:blipFill>
          <a:blip r:embed="rId1"/>
          <a:stretch/>
        </p:blipFill>
        <p:spPr>
          <a:xfrm>
            <a:off x="2286000" y="5786280"/>
            <a:ext cx="4748040" cy="862200"/>
          </a:xfrm>
          <a:prstGeom prst="rect">
            <a:avLst/>
          </a:prstGeom>
          <a:ln w="0">
            <a:noFill/>
          </a:ln>
        </p:spPr>
      </p:pic>
      <p:sp>
        <p:nvSpPr>
          <p:cNvPr id="184" name="Titolo 1"/>
          <p:cNvSpPr/>
          <p:nvPr/>
        </p:nvSpPr>
        <p:spPr>
          <a:xfrm>
            <a:off x="250920" y="44280"/>
            <a:ext cx="87868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1f497d"/>
                </a:solidFill>
                <a:latin typeface="Arial Narrow"/>
              </a:rPr>
              <a:t>Crisis and Italy’s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6"/>
          <p:cNvSpPr/>
          <p:nvPr/>
        </p:nvSpPr>
        <p:spPr>
          <a:xfrm>
            <a:off x="179280" y="549360"/>
            <a:ext cx="882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egnaposto piè di pagina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8" descr="logo mef"/>
          <p:cNvPicPr/>
          <p:nvPr/>
        </p:nvPicPr>
        <p:blipFill>
          <a:blip r:embed="rId2"/>
          <a:stretch/>
        </p:blipFill>
        <p:spPr>
          <a:xfrm>
            <a:off x="285840" y="0"/>
            <a:ext cx="6429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14200" y="876240"/>
            <a:ext cx="8715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f497d"/>
                </a:solidFill>
                <a:uFillTx/>
                <a:latin typeface="Arial Narrow"/>
              </a:rPr>
              <a:t>Italy’s budgetary consolidation at a gl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A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cumulative budgetary consolidation effort 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of €80 billion, or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5% of GDP,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 between July 2011 and 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To achieve a budget deficit of 1.7% in 2012 after a result of -3.9% in 2011. This means a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primary balance 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(before debt service costs) of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3.5% this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General government account on balance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, in structural terms,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in 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Debt to start decreasing in 2013 from a forecast of 123.4% in 201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A full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3 percentage points of GDP represent Italy’s share of the assistance to GR, IE and PT as well as ESM capit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Immagine 3" descr="logo_ovale_prova"/>
          <p:cNvPicPr/>
          <p:nvPr/>
        </p:nvPicPr>
        <p:blipFill>
          <a:blip r:embed="rId1"/>
          <a:stretch/>
        </p:blipFill>
        <p:spPr>
          <a:xfrm>
            <a:off x="2286000" y="5786280"/>
            <a:ext cx="4748040" cy="862200"/>
          </a:xfrm>
          <a:prstGeom prst="rect">
            <a:avLst/>
          </a:prstGeom>
          <a:ln w="0">
            <a:noFill/>
          </a:ln>
        </p:spPr>
      </p:pic>
      <p:sp>
        <p:nvSpPr>
          <p:cNvPr id="94" name="Titolo 1"/>
          <p:cNvSpPr/>
          <p:nvPr/>
        </p:nvSpPr>
        <p:spPr>
          <a:xfrm>
            <a:off x="0" y="117360"/>
            <a:ext cx="9001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830920" algn="just">
              <a:lnSpc>
                <a:spcPct val="100000"/>
              </a:lnSpc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1f497d"/>
                </a:solidFill>
                <a:latin typeface="Arial Narrow"/>
              </a:rPr>
              <a:t>	</a:t>
            </a:r>
            <a:r>
              <a:rPr b="0" i="1" lang="it-IT" sz="2000" spc="-1" strike="noStrike">
                <a:solidFill>
                  <a:srgbClr val="1f497d"/>
                </a:solidFill>
                <a:latin typeface="Arial Narrow"/>
              </a:rPr>
              <a:t>Fiscal consolid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7"/>
          <p:cNvSpPr/>
          <p:nvPr/>
        </p:nvSpPr>
        <p:spPr>
          <a:xfrm>
            <a:off x="179280" y="549360"/>
            <a:ext cx="882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logo mef"/>
          <p:cNvPicPr/>
          <p:nvPr/>
        </p:nvPicPr>
        <p:blipFill>
          <a:blip r:embed="rId2"/>
          <a:stretch/>
        </p:blipFill>
        <p:spPr>
          <a:xfrm>
            <a:off x="285840" y="0"/>
            <a:ext cx="6429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14200" y="642960"/>
            <a:ext cx="8715600" cy="51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f497d"/>
                </a:solidFill>
                <a:uFillTx/>
                <a:latin typeface="Arial Narrow"/>
              </a:rPr>
              <a:t>Modest deterioration in Italy’s public deficit during the cri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Immagine 3" descr="logo_ovale_prova"/>
          <p:cNvPicPr/>
          <p:nvPr/>
        </p:nvPicPr>
        <p:blipFill>
          <a:blip r:embed="rId1"/>
          <a:stretch/>
        </p:blipFill>
        <p:spPr>
          <a:xfrm>
            <a:off x="2286000" y="5786280"/>
            <a:ext cx="4748040" cy="862200"/>
          </a:xfrm>
          <a:prstGeom prst="rect">
            <a:avLst/>
          </a:prstGeom>
          <a:ln w="0">
            <a:noFill/>
          </a:ln>
        </p:spPr>
      </p:pic>
      <p:sp>
        <p:nvSpPr>
          <p:cNvPr id="99" name="Titolo 1"/>
          <p:cNvSpPr/>
          <p:nvPr/>
        </p:nvSpPr>
        <p:spPr>
          <a:xfrm>
            <a:off x="0" y="117360"/>
            <a:ext cx="9001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830920" algn="just">
              <a:lnSpc>
                <a:spcPct val="100000"/>
              </a:lnSpc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1f497d"/>
                </a:solidFill>
                <a:latin typeface="Arial Narrow"/>
              </a:rPr>
              <a:t>Crisis and Italy’s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7"/>
          <p:cNvSpPr/>
          <p:nvPr/>
        </p:nvSpPr>
        <p:spPr>
          <a:xfrm>
            <a:off x="179280" y="549360"/>
            <a:ext cx="882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logo mef"/>
          <p:cNvPicPr/>
          <p:nvPr/>
        </p:nvPicPr>
        <p:blipFill>
          <a:blip r:embed="rId2"/>
          <a:stretch/>
        </p:blipFill>
        <p:spPr>
          <a:xfrm>
            <a:off x="285840" y="0"/>
            <a:ext cx="642960" cy="500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3"/>
          <a:stretch/>
        </p:blipFill>
        <p:spPr>
          <a:xfrm>
            <a:off x="0" y="1143000"/>
            <a:ext cx="87868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14200" y="642960"/>
            <a:ext cx="8715600" cy="51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f497d"/>
                </a:solidFill>
                <a:uFillTx/>
                <a:latin typeface="Arial Narrow"/>
              </a:rPr>
              <a:t>Debt-to-GDP increased mainly due to economic cri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Immagine 3" descr="logo_ovale_prova"/>
          <p:cNvPicPr/>
          <p:nvPr/>
        </p:nvPicPr>
        <p:blipFill>
          <a:blip r:embed="rId1"/>
          <a:stretch/>
        </p:blipFill>
        <p:spPr>
          <a:xfrm>
            <a:off x="2286000" y="5786280"/>
            <a:ext cx="4748040" cy="862200"/>
          </a:xfrm>
          <a:prstGeom prst="rect">
            <a:avLst/>
          </a:prstGeom>
          <a:ln w="0">
            <a:noFill/>
          </a:ln>
        </p:spPr>
      </p:pic>
      <p:sp>
        <p:nvSpPr>
          <p:cNvPr id="105" name="Titolo 1"/>
          <p:cNvSpPr/>
          <p:nvPr/>
        </p:nvSpPr>
        <p:spPr>
          <a:xfrm>
            <a:off x="0" y="117360"/>
            <a:ext cx="9001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830920" algn="just">
              <a:lnSpc>
                <a:spcPct val="100000"/>
              </a:lnSpc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1f497d"/>
                </a:solidFill>
                <a:latin typeface="Arial Narrow"/>
              </a:rPr>
              <a:t>Crisis and Italy’s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179280" y="549360"/>
            <a:ext cx="882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logo mef"/>
          <p:cNvPicPr/>
          <p:nvPr/>
        </p:nvPicPr>
        <p:blipFill>
          <a:blip r:embed="rId2"/>
          <a:stretch/>
        </p:blipFill>
        <p:spPr>
          <a:xfrm>
            <a:off x="285840" y="0"/>
            <a:ext cx="642960" cy="500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" descr=""/>
          <p:cNvPicPr/>
          <p:nvPr/>
        </p:nvPicPr>
        <p:blipFill>
          <a:blip r:embed="rId3"/>
          <a:stretch/>
        </p:blipFill>
        <p:spPr>
          <a:xfrm>
            <a:off x="0" y="1071720"/>
            <a:ext cx="85154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14200" y="642960"/>
            <a:ext cx="8715600" cy="51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f497d"/>
                </a:solidFill>
                <a:uFillTx/>
                <a:latin typeface="Arial Narrow"/>
              </a:rPr>
              <a:t>Primary surplus at 5% of GDP or above from 2014 onwards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Immagine 3" descr="logo_ovale_prova"/>
          <p:cNvPicPr/>
          <p:nvPr/>
        </p:nvPicPr>
        <p:blipFill>
          <a:blip r:embed="rId1"/>
          <a:stretch/>
        </p:blipFill>
        <p:spPr>
          <a:xfrm>
            <a:off x="2286000" y="5786280"/>
            <a:ext cx="4748040" cy="862200"/>
          </a:xfrm>
          <a:prstGeom prst="rect">
            <a:avLst/>
          </a:prstGeom>
          <a:ln w="0">
            <a:noFill/>
          </a:ln>
        </p:spPr>
      </p:pic>
      <p:sp>
        <p:nvSpPr>
          <p:cNvPr id="111" name="Titolo 1"/>
          <p:cNvSpPr/>
          <p:nvPr/>
        </p:nvSpPr>
        <p:spPr>
          <a:xfrm>
            <a:off x="0" y="117360"/>
            <a:ext cx="9001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830920" algn="just">
              <a:lnSpc>
                <a:spcPct val="100000"/>
              </a:lnSpc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1f497d"/>
                </a:solidFill>
                <a:latin typeface="Arial Narrow"/>
              </a:rPr>
              <a:t>	</a:t>
            </a:r>
            <a:r>
              <a:rPr b="0" i="1" lang="it-IT" sz="2000" spc="-1" strike="noStrike">
                <a:solidFill>
                  <a:srgbClr val="1f497d"/>
                </a:solidFill>
                <a:latin typeface="Arial Narrow"/>
              </a:rPr>
              <a:t>Fiscal consolid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7"/>
          <p:cNvSpPr/>
          <p:nvPr/>
        </p:nvSpPr>
        <p:spPr>
          <a:xfrm>
            <a:off x="179280" y="549360"/>
            <a:ext cx="882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logo mef"/>
          <p:cNvPicPr/>
          <p:nvPr/>
        </p:nvPicPr>
        <p:blipFill>
          <a:blip r:embed="rId2"/>
          <a:stretch/>
        </p:blipFill>
        <p:spPr>
          <a:xfrm>
            <a:off x="285840" y="0"/>
            <a:ext cx="642960" cy="500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3"/>
          <a:stretch/>
        </p:blipFill>
        <p:spPr>
          <a:xfrm>
            <a:off x="324000" y="1247760"/>
            <a:ext cx="84247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214200" y="876240"/>
            <a:ext cx="8715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f497d"/>
                </a:solidFill>
                <a:uFillTx/>
                <a:latin typeface="Arial Narrow"/>
              </a:rPr>
              <a:t>Main budgetary consolidation measur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Re-introduction of a property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 tax 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(IM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Higher excise duties on fuels 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and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taxation of luxury good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Sizeable savings from a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pension reform 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that rises statutory retirement age (SRA) to 66 years in 2012 (further increase to 67 already in law);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automatically indexes 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SRA to future gains in life expectancy; and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curtails early reti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All but mod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e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st pensions frozen in 2012-13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Reduction in social security and local government spending, namely through a territorial reorganization (abolition of many provinc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Immagine 3" descr="logo_ovale_prova"/>
          <p:cNvPicPr/>
          <p:nvPr/>
        </p:nvPicPr>
        <p:blipFill>
          <a:blip r:embed="rId1"/>
          <a:stretch/>
        </p:blipFill>
        <p:spPr>
          <a:xfrm>
            <a:off x="2286000" y="5786280"/>
            <a:ext cx="4748040" cy="862200"/>
          </a:xfrm>
          <a:prstGeom prst="rect">
            <a:avLst/>
          </a:prstGeom>
          <a:ln w="0">
            <a:noFill/>
          </a:ln>
        </p:spPr>
      </p:pic>
      <p:sp>
        <p:nvSpPr>
          <p:cNvPr id="117" name="Titolo 1"/>
          <p:cNvSpPr/>
          <p:nvPr/>
        </p:nvSpPr>
        <p:spPr>
          <a:xfrm>
            <a:off x="250920" y="117360"/>
            <a:ext cx="87868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830920">
              <a:lnSpc>
                <a:spcPct val="100000"/>
              </a:lnSpc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1f497d"/>
                </a:solidFill>
                <a:latin typeface="Arial Narrow"/>
              </a:rPr>
              <a:t>	</a:t>
            </a:r>
            <a:r>
              <a:rPr b="0" i="1" lang="it-IT" sz="2000" spc="-1" strike="noStrike">
                <a:solidFill>
                  <a:srgbClr val="1f497d"/>
                </a:solidFill>
                <a:latin typeface="Arial Narrow"/>
              </a:rPr>
              <a:t>Fiscal consoli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179280" y="549360"/>
            <a:ext cx="882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logo mef"/>
          <p:cNvPicPr/>
          <p:nvPr/>
        </p:nvPicPr>
        <p:blipFill>
          <a:blip r:embed="rId2"/>
          <a:stretch/>
        </p:blipFill>
        <p:spPr>
          <a:xfrm>
            <a:off x="285840" y="0"/>
            <a:ext cx="6429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214200" y="876240"/>
            <a:ext cx="8715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f497d"/>
                </a:solidFill>
                <a:uFillTx/>
                <a:latin typeface="Arial Narrow"/>
              </a:rPr>
              <a:t>A spending review to increase quality of public financ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After a thorough review of public spending, the government in June announced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savings of €26 billion 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between 2012-2014. Such savings will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prevent the increase by two points of the 10% and 21% VAT rates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, which would have been the second increase in one year and further depressed consumption and economic a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The savings will come from sourcing all purchases of services and goods through a central-purchasing agency; reducing public sector employees and territorial organization, among other meas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More savings to be announced soon 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as the government carries a review of business incentives and the financing of political par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Immagine 3" descr="logo_ovale_prova"/>
          <p:cNvPicPr/>
          <p:nvPr/>
        </p:nvPicPr>
        <p:blipFill>
          <a:blip r:embed="rId1"/>
          <a:stretch/>
        </p:blipFill>
        <p:spPr>
          <a:xfrm>
            <a:off x="2286000" y="5786280"/>
            <a:ext cx="4748040" cy="862200"/>
          </a:xfrm>
          <a:prstGeom prst="rect">
            <a:avLst/>
          </a:prstGeom>
          <a:ln w="0">
            <a:noFill/>
          </a:ln>
        </p:spPr>
      </p:pic>
      <p:sp>
        <p:nvSpPr>
          <p:cNvPr id="122" name="Titolo 1"/>
          <p:cNvSpPr/>
          <p:nvPr/>
        </p:nvSpPr>
        <p:spPr>
          <a:xfrm>
            <a:off x="250920" y="117360"/>
            <a:ext cx="87868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830920">
              <a:lnSpc>
                <a:spcPct val="100000"/>
              </a:lnSpc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1f497d"/>
                </a:solidFill>
                <a:latin typeface="Arial Narrow"/>
              </a:rPr>
              <a:t>	</a:t>
            </a:r>
            <a:r>
              <a:rPr b="0" i="1" lang="it-IT" sz="2000" spc="-1" strike="noStrike">
                <a:solidFill>
                  <a:srgbClr val="1f497d"/>
                </a:solidFill>
                <a:latin typeface="Arial Narrow"/>
              </a:rPr>
              <a:t>Fiscal consoli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7"/>
          <p:cNvSpPr/>
          <p:nvPr/>
        </p:nvSpPr>
        <p:spPr>
          <a:xfrm>
            <a:off x="179280" y="549360"/>
            <a:ext cx="882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logo mef"/>
          <p:cNvPicPr/>
          <p:nvPr/>
        </p:nvPicPr>
        <p:blipFill>
          <a:blip r:embed="rId2"/>
          <a:stretch/>
        </p:blipFill>
        <p:spPr>
          <a:xfrm>
            <a:off x="285840" y="0"/>
            <a:ext cx="6429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14200" y="876240"/>
            <a:ext cx="8715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f497d"/>
                </a:solidFill>
                <a:uFillTx/>
                <a:latin typeface="Arial Narrow"/>
              </a:rPr>
              <a:t>Fight against tax eva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Ban on cash payments of €1,000 or more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Tax evasion or misreporting of taxes  becomes a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criminal off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Increased surprise, targeted spot checks for search of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undeclared revenues 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and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VAT frauds. 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But less intrusive controls for citizens and firms seen complying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Increased crackdown on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undeclared work 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through a closer cooperation with the authority that collects salary-linked social security contribu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Immagine 3" descr="logo_ovale_prova"/>
          <p:cNvPicPr/>
          <p:nvPr/>
        </p:nvPicPr>
        <p:blipFill>
          <a:blip r:embed="rId1"/>
          <a:stretch/>
        </p:blipFill>
        <p:spPr>
          <a:xfrm>
            <a:off x="2286000" y="5786280"/>
            <a:ext cx="4748040" cy="862200"/>
          </a:xfrm>
          <a:prstGeom prst="rect">
            <a:avLst/>
          </a:prstGeom>
          <a:ln w="0">
            <a:noFill/>
          </a:ln>
        </p:spPr>
      </p:pic>
      <p:sp>
        <p:nvSpPr>
          <p:cNvPr id="127" name="Titolo 1"/>
          <p:cNvSpPr/>
          <p:nvPr/>
        </p:nvSpPr>
        <p:spPr>
          <a:xfrm>
            <a:off x="250920" y="117360"/>
            <a:ext cx="87868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830920">
              <a:lnSpc>
                <a:spcPct val="100000"/>
              </a:lnSpc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1f497d"/>
                </a:solidFill>
                <a:latin typeface="Arial Narrow"/>
              </a:rPr>
              <a:t>	</a:t>
            </a:r>
            <a:r>
              <a:rPr b="0" i="1" lang="it-IT" sz="2000" spc="-1" strike="noStrike">
                <a:solidFill>
                  <a:srgbClr val="1f497d"/>
                </a:solidFill>
                <a:latin typeface="Arial Narrow"/>
              </a:rPr>
              <a:t>Fiscal consoli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179280" y="549360"/>
            <a:ext cx="882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logo mef"/>
          <p:cNvPicPr/>
          <p:nvPr/>
        </p:nvPicPr>
        <p:blipFill>
          <a:blip r:embed="rId2"/>
          <a:stretch/>
        </p:blipFill>
        <p:spPr>
          <a:xfrm>
            <a:off x="285840" y="0"/>
            <a:ext cx="6429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214200" y="876240"/>
            <a:ext cx="8715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1f497d"/>
                </a:solidFill>
                <a:uFillTx/>
                <a:latin typeface="Arial Narrow"/>
              </a:rPr>
              <a:t>Measures to reduce debt fas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At least €10 billion 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expected in 2012 from </a:t>
            </a:r>
            <a:r>
              <a:rPr b="0" i="1" lang="en-US" sz="2400" spc="-1" strike="noStrike">
                <a:solidFill>
                  <a:srgbClr val="1f497d"/>
                </a:solidFill>
                <a:latin typeface="Arial Narrow"/>
              </a:rPr>
              <a:t>Cassa Depositi e Prestiti 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(CDC) purchase, at market prices, of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government shares in Fintecna, SACE and SIMEST.</a:t>
            </a: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 CDC to advance 60% of the estimated val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Real estate properties, including military barracks, worth an estimated €1.5 billion transferred to a real estate fund with the aim of selling properties or create value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f497d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 Narrow"/>
              </a:rPr>
              <a:t>Planned State </a:t>
            </a:r>
            <a:r>
              <a:rPr b="1" lang="en-US" sz="2400" spc="-1" strike="noStrike">
                <a:solidFill>
                  <a:srgbClr val="1f497d"/>
                </a:solidFill>
                <a:latin typeface="Arial Narrow"/>
              </a:rPr>
              <a:t>and local property disposal is expected to yield €15-20 billion revenues over 5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Immagine 3" descr="logo_ovale_prova"/>
          <p:cNvPicPr/>
          <p:nvPr/>
        </p:nvPicPr>
        <p:blipFill>
          <a:blip r:embed="rId1"/>
          <a:stretch/>
        </p:blipFill>
        <p:spPr>
          <a:xfrm>
            <a:off x="2286000" y="5786280"/>
            <a:ext cx="4748040" cy="862200"/>
          </a:xfrm>
          <a:prstGeom prst="rect">
            <a:avLst/>
          </a:prstGeom>
          <a:ln w="0">
            <a:noFill/>
          </a:ln>
        </p:spPr>
      </p:pic>
      <p:sp>
        <p:nvSpPr>
          <p:cNvPr id="132" name="Titolo 1"/>
          <p:cNvSpPr/>
          <p:nvPr/>
        </p:nvSpPr>
        <p:spPr>
          <a:xfrm>
            <a:off x="250920" y="117360"/>
            <a:ext cx="87868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830920">
              <a:lnSpc>
                <a:spcPct val="100000"/>
              </a:lnSpc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1f497d"/>
                </a:solidFill>
                <a:latin typeface="Arial Narrow"/>
              </a:rPr>
              <a:t>	</a:t>
            </a:r>
            <a:r>
              <a:rPr b="0" i="1" lang="it-IT" sz="2000" spc="-1" strike="noStrike">
                <a:solidFill>
                  <a:srgbClr val="1f497d"/>
                </a:solidFill>
                <a:latin typeface="Arial Narrow"/>
              </a:rPr>
              <a:t>Fiscal consoli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179280" y="549360"/>
            <a:ext cx="882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logo mef"/>
          <p:cNvPicPr/>
          <p:nvPr/>
        </p:nvPicPr>
        <p:blipFill>
          <a:blip r:embed="rId2"/>
          <a:stretch/>
        </p:blipFill>
        <p:spPr>
          <a:xfrm>
            <a:off x="285840" y="0"/>
            <a:ext cx="6429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3T19:15:35Z</dcterms:created>
  <dc:creator>casarno</dc:creator>
  <dc:description/>
  <dc:language>en-US</dc:language>
  <cp:lastModifiedBy>Halttu Janne</cp:lastModifiedBy>
  <dcterms:modified xsi:type="dcterms:W3CDTF">2012-08-02T08:07:48Z</dcterms:modified>
  <cp:revision>109</cp:revision>
  <dc:subject/>
  <dc:title>Sustainable Growth Measures</dc:title>
</cp:coreProperties>
</file>