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026-3CD2-4DD0-AD1D-938F15B2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DFC-C854-4AED-999C-B3BC6D99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137-3D53-406F-837E-CE94854D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C05-525E-41F0-A738-876007C9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8AE-4E1A-447D-AFF6-F98A9292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BDE-24D8-4A60-8F94-0AE8A04E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D7D-3301-4759-9CFD-6E00C9C9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A9F-E4DE-4383-AB0F-8D4EB234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72A-F822-470A-8EC6-2BEBFB1E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847-977C-49BF-A685-A169482C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C26A-7225-477F-96DA-D1219259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275-A45A-403A-ABFC-9B388E57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B9F4-401F-4CF1-A243-F85ADB34E0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000000"/>
                </a:solidFill>
                <a:latin typeface="Arial"/>
              </a:rPr>
              <a:t>Russia and the Post-2012 Climate Regime:</a:t>
            </a:r>
            <a:br>
              <a:rPr sz="4000"/>
            </a:b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oreign rather than Environmenta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r Anna Korpp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Finnish Institute of Internation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24 Novem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Economic growth and e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Why emissions are gr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tandard of living improving – power consumption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eintroduction of inefficient ol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witch from gas to coal which price is seen as more sta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fficiency of economy improved due to modernisation less than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utin’s goal doubling GDP 2000-2010 – cutting emissions could hinder achi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larionov’s original argument during ratification which was disagreed by many, but now more support as emissions are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45% of public do not think that public money should be spent on emission re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tage of development of economies -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Criticism of the economic growth arg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cent GDP growth fuelled by the high oil price – not directly leading to higher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tential to improve energy efficiency – positive impact on the economy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evelopment towards post-industrialised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cent global economic trends slowing down Russian economic grow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ussian position could be challenged: not so difficult or costly to reduce emissions – even beneficial for the econom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lready existing policies which can cut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UT Western scientific views unlikely to be taken seriously in the Russian deb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olitical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articipation of other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Kyoto Protocol is not regarded as effective in Russia due to its small impact on global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rge emitters wanted to join, also develop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role of the US is important, seen as an equal partner for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8 key actor to encourage Russia to join post-2012 pact - Russia could support views opposing binding targets inside G8 but difficult to break con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8 goal to cut 50% of emissions by 2050 labelled as ’aspirational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vy of the CDM early start compared to JI: Russia been unfairly t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Russia as a Global P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restige of Russia – leadership seeking to regain status as a world power like the Soviet Union – showing muscle and independent decisions for instance with Geo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tification of the Kyoto Protocol was a good example – Russia wanted attention and go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mportant that Russian decisions well backed by analysis as bad experiences in the early 1990s when the Soviet structures could not respond international requirements very competent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ussia’s aim to gain a role as a world power could be a way to encourage Russia to join post-2012 reg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st-2012 regime very different for Russia than Kyoto: unlikely to be allocated benefi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o incentive to join: Reluctant negotiation partner as no public pressure or environmental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kely to expect space to grow emissions, limiting economic growth politically un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UT - the Russian economic growth argumentation could be challenged – for instance BAU policies can cut emissions significa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nlikely to disagree with the G8 but likely to team up with the other reluctant members of the group - external political pressur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Focus on Russian role as a world power and modernisation of economy rather than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6500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ntact: anna.korppoo@upi-fiia.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ussian submission for Poz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conomic argument against post-2012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litical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Russia and the Kyoto 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ollapse of GHG emissions due to the economic recession in the early-199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oto base year 1990 – target to limit emissions to 1990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rplus allowances i.e. ’hot ai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oto seemed like a good deal for Russia BUT dissappointment when the US withdr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oto mechanisms seem bureaucr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nce Kyoto economic situation changed a lot as large revenues from fossil fuel exports – Kyoto money seems in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ussian climate politics so far driven rather by economic gains than environmental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Impacts of climate change: not just doom and gl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elief that not only negative – also IPCC predicts some positive impacts in the Russian territory: decreased heating, improving agricultural potential, opening sea routes, new oil and gas reserves uncov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lso negative impacts already at sight: forest fires, spreading diseases, floods, trouble for forestry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hanges in the North may be less relevant as less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fficial line to support the findings of the IP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o public pressure and ’climate hype’ – low awareness and the lack of democracy and a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ceptical views and engineering solutions by Russian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Russian submission for Pozn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Position for Poznan: Russia is reluctant to commit to binding tar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8 -50% by 2050 – ’aspirational’, NOT basis for distribution of emitting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ollective reduction target of 25-40% from 1990 level by 2020 ’unreasonabl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ffectiveness and fair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ational conditions and real capabilities of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egally binding’ commitments acceptable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OT enforceable and sancti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ssible to adjust on the course of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ffective incentives to fulf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rket approach: may lead to spe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rouping of countries need up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conomic and social indicators to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Economic argument against post-2012 commit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4869000"/>
            <a:ext cx="74991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Emissions 27% below 1990 i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Emissions grown by some 15% by 2006 since the lowest point in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GHG growth 2.6% in 2006 – GDP growth 6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92280"/>
            <a:ext cx="2881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Russian economy and GHG emissions are growing – in tand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76720" y="549360"/>
          <a:ext cx="5543280" cy="40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55432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0:43:42Z</dcterms:created>
  <dc:creator>Administrator</dc:creator>
  <dc:description/>
  <dc:language>en-US</dc:language>
  <cp:lastModifiedBy>Tuuli Mäkelä</cp:lastModifiedBy>
  <dcterms:modified xsi:type="dcterms:W3CDTF">2008-11-27T12:58:06Z</dcterms:modified>
  <cp:revision>59</cp:revision>
  <dc:subject/>
  <dc:title>The Role of Russia in the Post-2012 Climate Politics</dc:title>
</cp:coreProperties>
</file>