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4981A-DE03-46A2-B592-92BB3DEE3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BA759-D931-4B09-A6F3-7A0BA62DF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89A5A-A18C-4AB6-B7CE-62B823243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D2582-DA61-4C7E-A351-5F9B0D6BE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31E3-C7AA-4D26-B827-9C8902A7F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F282B-8FA2-4730-94DD-A7A6B0FA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D2404-9562-47DC-94B4-FB4D02D97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53A93-B697-4B07-9496-5289CD860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8459A-FE38-4A7F-ADB4-F78C11BAA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C7FAA-62CC-4711-911C-1B9A4B4BD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7AFC-F9E5-4A18-A6A6-209E7D1B8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2D11-E888-4515-B1CB-F7F209981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A701-80BA-4939-91C9-8DD8FBD46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1324080"/>
          </a:xfrm>
          <a:prstGeom prst="rect">
            <a:avLst/>
          </a:prstGeom>
          <a:ln w="0">
            <a:noFill/>
          </a:ln>
        </p:spPr>
      </p:pic>
      <p:sp>
        <p:nvSpPr>
          <p:cNvPr id="42" name="PlaceHolder 1"/>
          <p:cNvSpPr>
            <a:spLocks noGrp="1"/>
          </p:cNvSpPr>
          <p:nvPr>
            <p:ph type="title"/>
          </p:nvPr>
        </p:nvSpPr>
        <p:spPr>
          <a:xfrm>
            <a:off x="684360" y="1988640"/>
            <a:ext cx="7772400" cy="453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Bringing European Debate to Finland: </a:t>
            </a:r>
            <a:br>
              <a:rPr sz="2800"/>
            </a:br>
            <a:br>
              <a:rPr sz="1400"/>
            </a:br>
            <a:r>
              <a:rPr b="0" lang="fi-FI" sz="2800" spc="-1" strike="noStrike">
                <a:solidFill>
                  <a:srgbClr val="000000"/>
                </a:solidFill>
                <a:latin typeface="Arial"/>
              </a:rPr>
              <a:t>Denmark’s opt-outs and what will </a:t>
            </a:r>
            <a:br>
              <a:rPr sz="2800"/>
            </a:br>
            <a:r>
              <a:rPr b="0" lang="fi-FI" sz="2800" spc="-1" strike="noStrike">
                <a:solidFill>
                  <a:srgbClr val="000000"/>
                </a:solidFill>
                <a:latin typeface="Arial"/>
              </a:rPr>
              <a:t>happen to them?</a:t>
            </a:r>
            <a:br>
              <a:rPr sz="2800"/>
            </a:br>
            <a:br>
              <a:rPr sz="3200"/>
            </a:br>
            <a:r>
              <a:rPr b="0" lang="fi-FI" sz="3200" spc="-1" strike="noStrike">
                <a:solidFill>
                  <a:srgbClr val="000000"/>
                </a:solidFill>
                <a:latin typeface="Arial"/>
              </a:rPr>
              <a:t>_________________________________</a:t>
            </a:r>
            <a:br>
              <a:rPr sz="3200"/>
            </a:br>
            <a:br>
              <a:rPr sz="3200"/>
            </a:br>
            <a:r>
              <a:rPr b="0" lang="fi-FI" sz="1600" spc="-1" strike="noStrike">
                <a:solidFill>
                  <a:srgbClr val="000000"/>
                </a:solidFill>
                <a:latin typeface="Arial"/>
              </a:rPr>
              <a:t>The European Union Research Programme</a:t>
            </a:r>
            <a:br>
              <a:rPr sz="1600"/>
            </a:br>
            <a:r>
              <a:rPr b="0" lang="fi-FI" sz="1600" spc="-1" strike="noStrike">
                <a:solidFill>
                  <a:srgbClr val="000000"/>
                </a:solidFill>
                <a:latin typeface="Arial"/>
              </a:rPr>
              <a:t> The Finnish Institute of International Affairs </a:t>
            </a:r>
            <a:br>
              <a:rPr sz="1600"/>
            </a:br>
            <a:br>
              <a:rPr sz="1600"/>
            </a:br>
            <a:r>
              <a:rPr b="0" lang="fi-FI" sz="1400" spc="-1" strike="noStrike">
                <a:solidFill>
                  <a:srgbClr val="000000"/>
                </a:solidFill>
                <a:latin typeface="Arial"/>
              </a:rPr>
              <a:t>TEPSA Guest Lecture</a:t>
            </a:r>
            <a:br>
              <a:rPr sz="1400"/>
            </a:br>
            <a:r>
              <a:rPr b="0" lang="fi-FI" sz="1400" spc="-1" strike="noStrike">
                <a:solidFill>
                  <a:srgbClr val="000000"/>
                </a:solidFill>
                <a:latin typeface="Arial"/>
              </a:rPr>
              <a:t>14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920" y="54900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The Danish EU-Orientation</a:t>
            </a:r>
            <a:endParaRPr b="0" lang="en-US" sz="3200" spc="-1" strike="noStrike">
              <a:solidFill>
                <a:srgbClr val="000000"/>
              </a:solidFill>
              <a:latin typeface="Arial"/>
            </a:endParaRPr>
          </a:p>
        </p:txBody>
      </p:sp>
      <p:sp>
        <p:nvSpPr>
          <p:cNvPr id="44" name="PlaceHolder 2"/>
          <p:cNvSpPr>
            <a:spLocks noGrp="1"/>
          </p:cNvSpPr>
          <p:nvPr>
            <p:ph/>
          </p:nvPr>
        </p:nvSpPr>
        <p:spPr>
          <a:xfrm>
            <a:off x="1186920" y="1412640"/>
            <a:ext cx="7129800" cy="460692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rPr>
              <a:t>”</a:t>
            </a:r>
            <a:r>
              <a:rPr b="0" i="1" lang="fi-FI" sz="1400" spc="-1" strike="noStrike">
                <a:solidFill>
                  <a:srgbClr val="000000"/>
                </a:solidFill>
                <a:latin typeface="Arial"/>
              </a:rPr>
              <a:t>Far too often, the standard Danish reaction has been characterized by a skeptical attitude towards changes in the EU. We have, as point of departure, wished to keep things as they were. </a:t>
            </a:r>
            <a:r>
              <a:rPr b="0" lang="en-US" sz="1400" spc="-1" strike="noStrike">
                <a:solidFill>
                  <a:srgbClr val="000000"/>
                </a:solidFill>
                <a:latin typeface="Arial"/>
                <a:ea typeface="Arial"/>
              </a:rPr>
              <a:t>[--] </a:t>
            </a:r>
            <a:r>
              <a:rPr b="0" i="1" lang="fi-FI" sz="1400" spc="-1" strike="noStrike">
                <a:solidFill>
                  <a:srgbClr val="000000"/>
                </a:solidFill>
                <a:latin typeface="Arial"/>
              </a:rPr>
              <a:t>This is not the way to achieve </a:t>
            </a:r>
            <a:r>
              <a:rPr b="1" lang="fi-FI" sz="1400" spc="-1" strike="noStrike">
                <a:solidFill>
                  <a:srgbClr val="000000"/>
                </a:solidFill>
                <a:latin typeface="Arial"/>
              </a:rPr>
              <a:t>influence</a:t>
            </a:r>
            <a:r>
              <a:rPr b="0" i="1" lang="fi-FI" sz="1400" spc="-1" strike="noStrike">
                <a:solidFill>
                  <a:srgbClr val="000000"/>
                </a:solidFill>
                <a:latin typeface="Arial"/>
              </a:rPr>
              <a:t>.”</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lang="fi-FI" sz="1400" spc="-1" strike="noStrike">
                <a:solidFill>
                  <a:srgbClr val="000000"/>
                </a:solidFill>
                <a:latin typeface="Arial"/>
              </a:rPr>
              <a:t>-Fogh Rasmussen-</a:t>
            </a: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n attempt to bridge elite Euro-optimis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and popular Euro-scepticis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what explains the difference between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he elite and public opin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ow could the division be abandoned?</a:t>
            </a:r>
            <a:endParaRPr b="0" lang="en-US" sz="20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he more opt-outs – the less influence?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6028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The impact of the Danish opt-outs/-ins on the EU cooperation and other MS</a:t>
            </a:r>
            <a:r>
              <a:rPr b="0" lang="fi-FI"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6" name=""/>
          <p:cNvGraphicFramePr/>
          <p:nvPr/>
        </p:nvGraphicFramePr>
        <p:xfrm>
          <a:off x="457200" y="765000"/>
          <a:ext cx="8435880" cy="5834160"/>
        </p:xfrm>
        <a:graphic>
          <a:graphicData uri="http://schemas.openxmlformats.org/drawingml/2006/table">
            <a:tbl>
              <a:tblPr/>
              <a:tblGrid>
                <a:gridCol w="1090440"/>
                <a:gridCol w="3529080"/>
                <a:gridCol w="3816360"/>
              </a:tblGrid>
              <a:tr h="821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EU COOPE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THER MEMBER STAT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e.g. Nordic Partner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Finland, Swed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2269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PT-OU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IN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transaction costs at the IGCs</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financial costs of opting-out from EMU</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rPr>
                        <a:t>economic &amp; business effects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political costs of opting-out from other fields of cooperation</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DECREASING?</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freedom of action</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international and EU-wide influence</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cope for Danish interests and priorities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in the issues external to the opt-outs)</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possibilities to run a good Presidency in 20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INCREASING?</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asymmetric interdependency</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Danish exemptions to be systematically accommodated</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policy-inconsistency</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policy-coherency</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DE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cooperation within particular areas, e.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ESDP/security and defence matter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JHA (civil law, border control, asylum, fighting illegal immigration and cross-border organized crime)</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90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P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I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IN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credibility, efficiency and transparency</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bility of the EU to present common positions on the international scene</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cooperation in security issue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Danish potential to gain top posts in the EU</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potential to run a good Presidency in 2012</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genda-setting power in important national issue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social policy, welfare modell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employment policy  • consumer protection</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environmental protection &amp; climate policie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ea typeface="Arial"/>
                        </a:rPr>
                        <a:t>DECREASING?</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independency, sovereignty &amp; autonomy</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opportunities to use emergency break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IN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overall political cooperation</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opportunities to form policy-relevant and issue-specific coalitions</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credibility and opportunities to influence</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power resources for small state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cooperation within particular areas, e.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security, defence and crisis managemen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peacekeeping and advisory task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JHA (civil law, border control, asylum, fighting illegal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immigration and cross-border organized crime)</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ea typeface="Arial"/>
                        </a:rPr>
                        <a:t>DE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independency &amp; autonom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Rethinking the Danish EU-Policy</a:t>
            </a:r>
            <a:endParaRPr b="0" lang="en-US" sz="3200" spc="-1" strike="noStrike">
              <a:solidFill>
                <a:srgbClr val="000000"/>
              </a:solidFill>
              <a:latin typeface="Arial"/>
            </a:endParaRPr>
          </a:p>
        </p:txBody>
      </p:sp>
      <p:sp>
        <p:nvSpPr>
          <p:cNvPr id="48" name="PlaceHolder 2"/>
          <p:cNvSpPr>
            <a:spLocks noGrp="1"/>
          </p:cNvSpPr>
          <p:nvPr>
            <p:ph/>
          </p:nvPr>
        </p:nvSpPr>
        <p:spPr>
          <a:xfrm>
            <a:off x="914040" y="1980720"/>
            <a:ext cx="7543800" cy="442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Framework conditions of Danish EU-polic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our opt-outs &amp; critical public opin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he process of reconsidering the opt-ou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next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ferendu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mode of campa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implications of Ire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5:34:33Z</dcterms:created>
  <dc:creator>hannu.mourujarvi</dc:creator>
  <dc:description/>
  <dc:language>en-US</dc:language>
  <cp:lastModifiedBy>Administrator</cp:lastModifiedBy>
  <dcterms:modified xsi:type="dcterms:W3CDTF">2008-10-14T12:07:40Z</dcterms:modified>
  <cp:revision>79</cp:revision>
  <dc:subject/>
  <dc:title>The Inauguration of the Finnish Institute of International Affairs, 7 February 2008  Programme  Seminar, 14:00 – 15:30   Welcoming address:  Minister  Antti Tanskanen, Chairman of the board, The Finnish Institute of International Affairs Speakers:  Mr. Sauli Niinistö, Speaker of the Parliament   ”Perspectives on the Transformation of International Relations”   Professor Alyson Bailes, University of Iceland   “What are European Institutions for?” Concluding remarks: Professor Raimo Väyrynen, Director,  The Finnish Institute of International Affairs Reception at Katajanokka, 16:00 – 18:00  After the seminar, the festivities will continue with a cocktail party at the new premises of the Finnish Institute of International Affairs (Kruunuvuorenkatu 4, 2nd floor). Charter buses to the reception leave from the main entrance of the New Annex Building after the seminar.  Speeches will be available in Finnish and in English at the website of the Finnish Institute of International Affairs, www.upi-fiia.fi. </dc:title>
</cp:coreProperties>
</file>