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18E7-B9B6-4DA7-A077-03A7186A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D14-1A5E-433B-9545-B33083C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5B3-411A-4F92-BC17-34E4E6BE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519-4F80-4AF0-B7C8-0C095050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BC5-5A54-4551-A307-54945F7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7F9-DBB9-4558-A97B-CC8382B2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4B9-EC80-401F-AD64-C0CB138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DF3-ACFE-4434-9EAB-2A40B57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FDE-F7CF-4E98-84E5-06AB2668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3AA-65C4-44ED-94AF-C1E2688C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8D7-00BD-4487-866A-24552850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53D-0A8C-4722-8A1D-1B6DB94B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D320-B5FA-41D0-8312-C01F85E0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 Foreign Poli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an External Action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m 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ctors in EU foreign poli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 Representative/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of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exception of CFSP, and other cases provided for in the Treaties, the Commission shall ensure the Union’s external representatio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of the European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at his or her level, and in that capacity, ensure the external representation of the Union on issues concerning CFSP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uropean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or seeking a better rol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Lisbon Treaty differ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tional Trea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 for Foreign Affairs’ replaced by ‘High Representativ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clarations annexed to Tre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sequences of Lisbon Treaty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policy and diplomacy at national level? Not much – member states retain existing right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t EU level? Not much –different procedures of the two ‘pillars’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etter development and execution of EU policies upstream &amp; downstream of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Questions concerning th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High Representa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hats? Multiple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P (High Represen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t is presently worn by Javier Sol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ssion (Vice-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t is presently worn by Jose Manuel Barr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(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‘third hat’ – an underestimated ta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be appoi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Questions concerning the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European External Action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: how to define the role of E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: need for skilled institution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: where in the institutional landscape to situate E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: its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: how to organis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: the EU’s missions ab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ary questions: how much will it cost, and who p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 states: different interests, different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table: when will EEA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rence and consistency in the formulation and execution of EU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cooperation between EU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synergy between EU and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authority and means for the new High Representative to do his/her task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organisation and personnel for EEAS to serve him/her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two ‘pillars’ closer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decisions that are realistic in the short term (2008) and ambitious in the long term (next gene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m of the ‘new architecture’ for EU foreign policy is not to replace national diplomacy by European diplomacy, or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ffers the chance for foreign policy professionals to work together so that European policy-making is enriched by national experience and national policy-making by European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resent, the distance and even rivalry between the two levels tends to exaggerate the antithesis between ‘national’ and ‘Europea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exist and will remain, but often they are less important than shared interests and the advantages of commo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young people entering foreign affairs should be able to make a career partly in national diplomacy (in a Foreign Ministry or an Embassy abroad) and partly in European service (in Brussels or a Union Delegation in a non-EU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generation of diplomats will bring to their work a better understanding of the practical realities of European and national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be able to develop a professional culture in which the terms ‘national’ and ‘European’ no longer imply antinomy, but sy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nish Institu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International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sin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 February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uation up to 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EU foreign polic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he pres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architecture of the Lisbon Trea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 Representative of the Union for Foreign Affairs and Secur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uropean External Action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s and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to be dec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7 Rome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, development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 European Political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2 Maastricht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oreign and Securit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7 Amsterdam Tre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presentative for C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‘pillar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by Commission (‘Community meth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, trade, enlargement, neighbourhood policy, environment, energy, transpor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oreign and Security Policy (CFS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d by High Representative for CFSP (‘intergovernmental method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cy, High Representative,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russ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val agencies, duplication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European Un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ity of 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ence of integra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herence and 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igh Representative of the Unio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Foreign Affairs and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person will assume the task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presentative for CF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of external relations in the European Commission as a 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manship of meetings of EU’s Foreign Affairs Council, in place of the present six-monthly rotating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/she will be appointed by European Council by qualified majority, with agreement of President of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uropean External Action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service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the High Representative in fulfilling his/her man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com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s from the relevant departments of the Council Secretariat and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seconded from the diplomatic services of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organisation and functioning will be decided by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roposal of the High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nsulting the European Parli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btaining the consent of the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on Dele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 in third countries and in international organisations shall represent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Delegations shall be placed under the authority of the High Represen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ll act in close cooperation with the diplomatic and consular missions of memb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9:33:54Z</dcterms:created>
  <dc:creator>Avery</dc:creator>
  <dc:description/>
  <dc:language>en-US</dc:language>
  <cp:lastModifiedBy>Avery</cp:lastModifiedBy>
  <dcterms:modified xsi:type="dcterms:W3CDTF">2008-02-24T22:01:48Z</dcterms:modified>
  <cp:revision>24</cp:revision>
  <dc:subject/>
  <dc:title>EU Foreign Policy and the European External Action Service</dc:title>
</cp:coreProperties>
</file>