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743-5B77-4807-8FF4-4BBFD417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531-FAA8-4B25-AC62-19F3F1CC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629-A78C-4FA7-9421-4390544D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D8F-B97A-4269-8A4F-86623B0A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588B-2977-4A6E-A839-7AE9C69A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6A4-A1E1-4BB4-A691-ED0F5D95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C12-456B-457E-8BD5-FFE508C9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B98-25C7-4017-9728-0FE90D5C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2205-044C-4469-B895-A4C93EEE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DF7-9B4B-4710-BAD9-5652D259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77A-4087-47DA-8116-1263D6EF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459-F6CD-4E7D-91F4-7BDBB2DC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6811-E98B-48F0-AC3B-D78652BF8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 Foreign Poli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ropean External Action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ham 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ctors in EU foreign poli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 Representative/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of the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exception of CFSP, and other cases provided for in the Treaties, the Commission shall ensure the Union’s external representatio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of the European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at his or her level, and in that capacity, ensure the external representation of the Union on issues concerning CFSP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uropean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tor seeking a better rol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Lisbon Treaty differ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tional Trea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er for Foreign Affairs’ replaced by ‘High Representativ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eclarations annexed to Tre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nsequences of Lisbon Treaty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 policy and diplomacy at national level? Not much – member states retain existing right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-making at EU level? Not much –different procedures of the two ‘pillars’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etter development and execution of EU policies upstream &amp; downstream of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Questions concerning the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High Representati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hats? Multiple ro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SP (High Represent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t is presently worn by Javier Sol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 (Vice-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t is presently worn by Jose Manuel Barr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(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‘third hat’ – an underestimated ta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ill be appoi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Questions concerning the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European External Action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: how to define the role of E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: need for skilled institution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where in the institutional landscape to situate E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: its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: how to organis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 Delegations: the EU’s missions 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ary questions: how much will it cost, and who pa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 states: different interests, different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table: when will EEAS 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ce and consistency in the formulation and execution of EU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cooperation between EU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synergy between EU and memb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authority and means for the new High Representative to do his/her task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he organisation and personnel for EEAS to serve him/her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he two ‘pillars’ closer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decisions that are realistic in the short term (2008) and ambitious in the long term (next gene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m of the ‘new architecture’ for EU foreign policy is not to replace national diplomacy by European diplomacy, or vice-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ffers the chance for foreign policy professionals to work together so that European policy-making is enriched by national experience and national policy-making by European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present, the distance and even rivalry between the two levels tends to exaggerate the antithesis between ‘national’ and ‘Europea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exist and will remain, but often they are less important than shared interests and the advantages of commo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young people entering foreign affairs should be able to make a career partly in national diplomacy (in a Foreign Ministry or an Embassy abroad) and partly in European service (in Brussels or a Union Delegation in a non-EU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generation of diplomats will bring to their work a better understanding of the practical realities of European and national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hould be able to develop a professional culture in which the terms ‘national’ and ‘European’ no longer imply antinomy, but sy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nnish Institu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International Aff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357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Februar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uation up to 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EU foreign policy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of the pres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architecture of the Lisbon Trea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gh Representative of the Union for Foreign Affairs and Security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uropean External Actio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s and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to be dec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and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7 Rome Tre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, development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0 European Political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2 Maastricht Tre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Foreign and Security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7 Amsterdam Tre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Representative for CF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‘pillars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d by Commission (‘Community method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, trade, enlargement, neighbourhood policy, environment, energy, transpor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Foreign and Security Policy (CFS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d by High Representative for CFSP (‘intergovernmental method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cy, High Representative,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russ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val agencies, duplication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the European Un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ity of v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ence of integrat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herence and 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gh Representative of the Unio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Foreign Affairs and Security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person will assume the task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Representative for CF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of external relations in the European Commission as a 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manship of meetings of EU’s Foreign Affairs Council, in place of the present six-monthly rotating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/she will be appointed by European Council by qualified majority, with agreement of President of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uropean External Actio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service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the High Representative in fulfilling his/her man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com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s from the relevant departments of the Council Secretariat and the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seconded from the diplomatic services of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organisation and functioning will be decided by the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proposal of the High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onsulting the European Parli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btaining the consent of the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ion Dele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 Delegations in third countries and in international organisations shall represent the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 Delegations shall be placed under the authority of the High Represen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hall act in close cooperation with the diplomatic and consular missions of memb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9:33:54Z</dcterms:created>
  <dc:creator>Avery</dc:creator>
  <dc:description/>
  <dc:language>en-US</dc:language>
  <cp:lastModifiedBy>Avery</cp:lastModifiedBy>
  <dcterms:modified xsi:type="dcterms:W3CDTF">2008-02-24T22:01:48Z</dcterms:modified>
  <cp:revision>24</cp:revision>
  <dc:subject/>
  <dc:title>EU Foreign Policy and the European External Action Service</dc:title>
</cp:coreProperties>
</file>