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858-086D-42C5-8D42-689C7DD9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8DE-4810-4F86-A889-C90CA99E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BD7-BF33-4049-8283-997C003B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5D2-9F03-4711-90E8-D16AD1AA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1472-050F-4163-8C29-E979908A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6767-7D99-4E29-9943-F8B6589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9C3B-1894-4436-9E18-6413604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1105-BF1D-4716-A18A-16A833D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2674-F10F-4C65-9FB0-AD68AC20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8C47-CD74-448D-8F99-04DDC273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66C-6E7C-475C-8F77-4AF5F120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7EB-38CB-4440-AF02-49B39B6D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768D-037F-47FB-9578-E341457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2D8A-B5E9-495D-A7C0-651323D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0533-C551-4996-BF4A-D94ECC4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6D27-DCB4-4F9B-9325-8AC67ECA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881B-AD40-4F3B-B612-12A0138E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056F-64C4-43FD-9372-E1F9A66E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4B3E-BA44-4C03-8C0C-37CE8BDA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6402-8D78-425F-BDA9-051F667E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40E0E-EC62-46B7-B711-FA6E239C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4DC9-BFDD-4A22-85C5-22CB8AE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3A8-8066-42BB-8CBD-2BA68F07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F9E45-CDCB-4027-8B0F-F13DB86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3527-C8C0-4EBF-B095-5DCBC1C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0FBE-55C5-4DEB-995D-18BAD59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EDCC-3DEB-40A1-A05C-8C5FF67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ED506-7475-45A2-A012-9B8ED76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9060-3079-4392-8874-8A069A73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C263-BFA9-4A84-BBE4-D6C2E6A3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FCD9-7D5F-463E-80A0-1808140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3F58-5AB3-486A-8DC9-404E3BC2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0EC7-022E-47D6-8297-876B854C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A78-D960-4D04-AC98-B929791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0BFB7-33AB-4B59-8EC0-ECD280BF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2716-0F3A-4694-BD92-F82CE407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BF70-EBAA-4F86-9F1D-4BDACFA8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7218-677B-4C59-87DC-7811073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1400-A27D-4999-8FFB-D655DEB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8ABD5-35BE-4AB3-B237-801725C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237D-55C1-4AAC-A233-D1E36C2F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1B89-CAB0-4B21-8CEE-BC358829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A27D-DCF9-4B5D-ABF5-C7CD6881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414-A6D2-405A-99F6-FF1B676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183-EA96-4577-A11D-0ADD2C0F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42C-BE81-4421-A9ED-6E9E107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F5F-2ED3-4465-89DA-ACC899B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C9A-0D1E-4899-9837-99F01E3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66000"/>
            <a:ext cx="7925400" cy="542880"/>
            <a:chOff x="628200" y="6066000"/>
            <a:chExt cx="7925400" cy="54288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66000"/>
              <a:ext cx="7925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EC93-FBA6-48D2-9DD7-57A938D6F641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4920"/>
            <a:ext cx="7388280" cy="541440"/>
            <a:chOff x="890640" y="5614920"/>
            <a:chExt cx="7388280" cy="54144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14920"/>
              <a:ext cx="73882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17F2-5A61-48B1-9CDC-64C9B7CD7182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2880"/>
            <a:chOff x="628560" y="6053040"/>
            <a:chExt cx="7729560" cy="54288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EB90-A42B-4977-8573-F06A269A5697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2880"/>
            <a:chOff x="628560" y="6053040"/>
            <a:chExt cx="7729560" cy="54288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A4B0-3629-4F89-866C-8D6D6952C459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83840" y="1795320"/>
            <a:ext cx="6388200" cy="243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azakhstan and Eurasian economic integ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nefits, costs and prospects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4227120"/>
            <a:ext cx="57117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Nargis Kasseno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KIMEP Univers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ther benefit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uman factor: more comfortable for ethnically Russian population in the count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Good relations with Russ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ther discont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ak negotiators on the Kazakh sid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balances in decision-mak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ifferences in goals: economic vs. politic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ifferences in desired pace and scope of integ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ices on consumer goods went 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Food prices on the five-year period grew 70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pillovers: currency devalu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1 February – 19% tenge devaluation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63400" y="1819080"/>
            <a:ext cx="619596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irds view: Can it be a success-in-the making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urasian integration seems to be in line with global trends (in terms of growing regionalism in trade), but goes too deep and too f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olitical integration (delegating part of the country’s sovereignty) goes against the trend of continuing nation-building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re is no new set of attractive values that would create the basis for a new un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ussia is no longer our “window to the world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urrent Russian approach diverges from Kazakhstan’s desired cours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it out and try to maintain its multivector foreign policy following the aspiration to integrate into the global economy and commun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mised benefi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re trade (market of 170 m people and better opportunities for doing business in Russia and Belorussia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re attractive for companies and investments because of lighter taxation and better “doing business” indi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ccess to Russian domestic tariffs for transit of good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eparation for WTO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 other alternative – it will be easier to withstand crises togeth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azakhstan-Russia tra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63760" y="2019240"/>
          <a:ext cx="6195960" cy="2611440"/>
        </p:xfrm>
        <a:graphic>
          <a:graphicData uri="http://schemas.openxmlformats.org/drawingml/2006/table">
            <a:tbl>
              <a:tblPr/>
              <a:tblGrid>
                <a:gridCol w="1239840"/>
                <a:gridCol w="1238040"/>
                <a:gridCol w="1239840"/>
                <a:gridCol w="1238400"/>
                <a:gridCol w="1239840"/>
              </a:tblGrid>
              <a:tr h="6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ade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2.4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7.9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22.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23.4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17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m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9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1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9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41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7.6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4.8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5.8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1"/>
          <p:cNvSpPr/>
          <p:nvPr/>
        </p:nvSpPr>
        <p:spPr>
          <a:xfrm>
            <a:off x="1565280" y="5048280"/>
            <a:ext cx="49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rade turnover in 2008 – $20b (before crisis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rade creation or trade diversio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d valorem equivalent tariff rate increased from 6.45 % to 12.1%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rade regime less liberal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Kazakhstan - EU trade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urnover in 2013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$54.7 b (41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U imports – $9 b (share fell from 29% in 2009 to 18.6% in 2013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ports to EU – $45.6b (53.9%) in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Kazakhstan – China trade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urnover in 2013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$22.7 b  (17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ports: $8.3 b (17.1%) against $3.5 b (12.6%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ports: $14.3 b (17.1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oblems experienced by Kazakh producer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ubsidi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arger capitalization of Russian compani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ome success stories: automobile industry, textile, computer equipment (?!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lack mark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cess to Russian domestic tariff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omised unification of transport tariffs didn’t take place, instead Kazakh transport companies as of 1 January 2014 pay international tariff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cording to the Treaty, common market for gas, oil and petroleum products by 202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eparation for WT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elay with Kazakhstan’s accession, confu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ithstanding crises togeth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risis spillover effec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04:10:18Z</dcterms:created>
  <dc:creator>Nargis Kassenova</dc:creator>
  <dc:description/>
  <dc:language>en-US</dc:language>
  <cp:lastModifiedBy>Nargis Kassenova</cp:lastModifiedBy>
  <dcterms:modified xsi:type="dcterms:W3CDTF">2014-08-22T06:59:14Z</dcterms:modified>
  <cp:revision>24</cp:revision>
  <dc:subject/>
  <dc:title>Is Eurasian economic integration good or bad for Kazakhstan?</dc:title>
</cp:coreProperties>
</file>