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B7EC-4A1E-418E-BCA2-0C2CFA401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03A1-1977-4A5B-8BA2-D27D0762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1660-E6FE-4102-B0F6-5FD8282D3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6FF1-EA58-4212-9BD9-0818AF814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0131-F153-4153-93F7-0954F458F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44E0-8D73-4F56-B54A-266546D6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2AD0-E4EA-4FED-A47F-0AA75564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6981-BEF3-44BF-A5A3-EF309970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A78B-0D26-480A-8087-EEAD0D42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F278-7812-47EA-A848-754041C6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9FDF-C2AB-4A6C-A883-C09A425E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12F2-204D-4F7E-8B35-394F8FCD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7A83-C15E-4EE1-A25D-86469DC0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B507-7396-4C12-B742-2C127C24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0372-61A0-454B-978C-8B83CD6B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45B9-4F9E-4FD3-BFD1-D15CF6FFF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7095-2BEB-42DD-A90D-9D75805EF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996EE-F6A5-4729-A93D-0030E40C0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1E665-2E4A-43A8-BBD1-34C86E3E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FDBB3-9073-479D-9482-4F11802D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2969D-9BD5-433E-A153-F801295F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D58D9-6B2E-44EE-9C0E-7325D51B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FF35-6D53-4DBF-9C11-FB91D02C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258AD-7697-4CED-A7DA-018E5C05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981E6-7C6E-4430-B3BB-F06E00DF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09720-1DFC-4A2E-8C9E-F4B6566E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38AE4-7655-4354-BFFE-C2913EBE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5B069-2834-4401-B709-87D024B5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3BC3E-7326-46C6-AAA1-702A67DEE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6A00D-0C22-4229-96BC-16587AA8F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4A8CC-EC08-4DAB-A777-18AB1A95D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D3291-FA2D-48A9-B6D5-E5101816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3CAA6-528D-4A82-AD2D-02791B0F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B19C-481E-4213-8F4C-9F61321F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F9E88-03AC-4B6E-A3A4-0BA2BA92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1155B-DFCD-48BC-B5F9-014959EB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39BBB-5CC8-4630-AF7A-04F27943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390F9-9A02-46EB-AADB-3425099C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E7306-B3EB-4A9A-AD29-664B5753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7413D-FBC7-4FBC-8CF6-8627FCAF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ED840-9DAF-49D8-9C40-7E645538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CCB56-53AD-4E50-AAA2-DE8BFC569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69DC0-1F94-482F-A83F-1CD8CDC8C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FF60-F82B-4067-B7E1-6FCE2EDD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0C48-A1AD-495B-BA57-789CE984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E9D7-A3A5-44E1-9E3C-D95EE44B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FC7F-935F-493B-9AD0-E46C44E5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3B83-F635-4FB5-9EE1-AB683144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39760" y="0"/>
              <a:ext cx="8004240" cy="6858000"/>
              <a:chOff x="1139760" y="0"/>
              <a:chExt cx="800424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39760" y="0"/>
                <a:ext cx="8004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2640" y="0"/>
                <a:ext cx="800136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8200" y="6066000"/>
            <a:ext cx="7925400" cy="542880"/>
            <a:chOff x="628200" y="6066000"/>
            <a:chExt cx="7925400" cy="54288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8560" y="6066000"/>
              <a:ext cx="792504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F7F4-0E68-40FE-8A7D-5D8679B0177A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15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57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59" name="Rectangle 16"/>
            <p:cNvGrpSpPr/>
            <p:nvPr/>
          </p:nvGrpSpPr>
          <p:grpSpPr>
            <a:xfrm>
              <a:off x="1139760" y="0"/>
              <a:ext cx="8004240" cy="6858000"/>
              <a:chOff x="1139760" y="0"/>
              <a:chExt cx="8004240" cy="6858000"/>
            </a:xfrm>
          </p:grpSpPr>
          <p:pic>
            <p:nvPicPr>
              <p:cNvPr id="60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39760" y="0"/>
                <a:ext cx="8004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2640" y="0"/>
                <a:ext cx="800136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62" name="Freeform 17"/>
          <p:cNvGrpSpPr/>
          <p:nvPr/>
        </p:nvGrpSpPr>
        <p:grpSpPr>
          <a:xfrm>
            <a:off x="890640" y="5614920"/>
            <a:ext cx="7388280" cy="541440"/>
            <a:chOff x="890640" y="5614920"/>
            <a:chExt cx="7388280" cy="541440"/>
          </a:xfrm>
        </p:grpSpPr>
        <p:pic>
          <p:nvPicPr>
            <p:cNvPr id="63" name="Freeform 17" descr=""/>
            <p:cNvPicPr/>
            <p:nvPr/>
          </p:nvPicPr>
          <p:blipFill>
            <a:blip r:embed="rId5"/>
            <a:stretch/>
          </p:blipFill>
          <p:spPr>
            <a:xfrm>
              <a:off x="890640" y="5614920"/>
              <a:ext cx="738828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720" y="5617800"/>
              <a:ext cx="73818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65" name="Rectangle 18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F7B1-E858-4DF9-8BDC-0B78E9204C28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15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12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14" name="Rectangle 16"/>
            <p:cNvGrpSpPr/>
            <p:nvPr/>
          </p:nvGrpSpPr>
          <p:grpSpPr>
            <a:xfrm>
              <a:off x="1139760" y="0"/>
              <a:ext cx="8004240" cy="6858000"/>
              <a:chOff x="1139760" y="0"/>
              <a:chExt cx="8004240" cy="6858000"/>
            </a:xfrm>
          </p:grpSpPr>
          <p:pic>
            <p:nvPicPr>
              <p:cNvPr id="115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39760" y="0"/>
                <a:ext cx="8004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142640" y="0"/>
                <a:ext cx="800136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17" name="Freeform 17"/>
          <p:cNvGrpSpPr/>
          <p:nvPr/>
        </p:nvGrpSpPr>
        <p:grpSpPr>
          <a:xfrm>
            <a:off x="628560" y="6053040"/>
            <a:ext cx="7729560" cy="542880"/>
            <a:chOff x="628560" y="6053040"/>
            <a:chExt cx="7729560" cy="542880"/>
          </a:xfrm>
        </p:grpSpPr>
        <p:pic>
          <p:nvPicPr>
            <p:cNvPr id="118" name="Freeform 17" descr=""/>
            <p:cNvPicPr/>
            <p:nvPr/>
          </p:nvPicPr>
          <p:blipFill>
            <a:blip r:embed="rId5"/>
            <a:stretch/>
          </p:blipFill>
          <p:spPr>
            <a:xfrm>
              <a:off x="628560" y="6053040"/>
              <a:ext cx="77295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20" name="Rectangle 1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Rectangle 19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Rectangle 20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Rectangle 21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E8E5-37F9-4024-9BAF-663712C517E1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15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69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71" name="Rectangle 16"/>
            <p:cNvGrpSpPr/>
            <p:nvPr/>
          </p:nvGrpSpPr>
          <p:grpSpPr>
            <a:xfrm>
              <a:off x="1139760" y="0"/>
              <a:ext cx="8004240" cy="6858000"/>
              <a:chOff x="1139760" y="0"/>
              <a:chExt cx="8004240" cy="6858000"/>
            </a:xfrm>
          </p:grpSpPr>
          <p:pic>
            <p:nvPicPr>
              <p:cNvPr id="172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39760" y="0"/>
                <a:ext cx="8004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1142640" y="0"/>
                <a:ext cx="800136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74" name="Freeform 17"/>
          <p:cNvGrpSpPr/>
          <p:nvPr/>
        </p:nvGrpSpPr>
        <p:grpSpPr>
          <a:xfrm>
            <a:off x="628560" y="6053040"/>
            <a:ext cx="7729560" cy="542880"/>
            <a:chOff x="628560" y="6053040"/>
            <a:chExt cx="7729560" cy="542880"/>
          </a:xfrm>
        </p:grpSpPr>
        <p:pic>
          <p:nvPicPr>
            <p:cNvPr id="175" name="Freeform 17" descr=""/>
            <p:cNvPicPr/>
            <p:nvPr/>
          </p:nvPicPr>
          <p:blipFill>
            <a:blip r:embed="rId5"/>
            <a:stretch/>
          </p:blipFill>
          <p:spPr>
            <a:xfrm>
              <a:off x="628560" y="6053040"/>
              <a:ext cx="77295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77" name="Rectangle 18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Rectangle 19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Rectangle 20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Rectangle 21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2126-E6ED-4974-92F3-44A172287FF8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83840" y="1795320"/>
            <a:ext cx="6388200" cy="243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Kazakhstan and Eurasian economic integratio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benefits, costs and prospects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727280" y="4227120"/>
            <a:ext cx="571176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Franklin Gothic Book"/>
              </a:rPr>
              <a:t>Nargis Kassenov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Franklin Gothic Book"/>
              </a:rPr>
              <a:t>KIMEP University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Other benefits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Human factor: more comfortable for ethnically Russian population in the country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Good relations with Russi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Other discontent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Weak negotiators on the Kazakh sid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Imbalances in decision-making 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Differences in goals: economic vs. politica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Differences in desired pace and scope of integratio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Prices on consumer goods went up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(Food prices on the five-year period grew 70%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pillovers: currency devaluatio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(11 February – 19% tenge devaluation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Prospect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463400" y="1819080"/>
            <a:ext cx="6195960" cy="39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Birds view: Can it be a success-in-the making?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Eurasian integration seems to be in line with global trends (in terms of growing regionalism in trade), but goes too deep and too fas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Political integration (delegating part of the country’s sovereignty) goes against the trend of continuing nation-building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ere is no new set of attractive values that would create the basis for a new unio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5520" indent="-24552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Russia is no longer our “window to the world”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5520" indent="-24552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urrent Russian approach diverges from Kazakhstan’s desired course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5520" indent="-24552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Wait out and try to maintain its multivector foreign policy following the aspiration to integrate into the global economy and community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Promised benefit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More trade (market of 170 m people and better opportunities for doing business in Russia and Belorussia)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More attractive for companies and investments because of lighter taxation and better “doing business” indice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Access to Russian domestic tariffs for transit of good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Preparation for WTO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No other alternative – it will be easier to withstand crises together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Kazakhstan-Russia tra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463760" y="2019240"/>
          <a:ext cx="6195960" cy="2611440"/>
        </p:xfrm>
        <a:graphic>
          <a:graphicData uri="http://schemas.openxmlformats.org/drawingml/2006/table">
            <a:tbl>
              <a:tblPr/>
              <a:tblGrid>
                <a:gridCol w="1239840"/>
                <a:gridCol w="1238040"/>
                <a:gridCol w="1239840"/>
                <a:gridCol w="1238400"/>
                <a:gridCol w="1239840"/>
              </a:tblGrid>
              <a:tr h="689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rade turn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$12.4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$17.9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$22.7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$23.4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(17.9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mpor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$9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(31.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$11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(39.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$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(41.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$17.6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(3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xpor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$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(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$4.8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(9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$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(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$5.8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(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230" name="TextBox 1"/>
          <p:cNvSpPr/>
          <p:nvPr/>
        </p:nvSpPr>
        <p:spPr>
          <a:xfrm>
            <a:off x="1565280" y="5048280"/>
            <a:ext cx="49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Trade turnover in 2008 – $20b (before crisis)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rade creation or trade diversion?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Ad valorem equivalent tariff rate increased from 6.45 % to 12.1%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rade regime less liberal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Kazakhstan - EU trade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urnover in 2013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$54.7 b (41%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EU imports – $9 b (share fell from 29% in 2009 to 18.6% in 2013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Exports to EU – $45.6b (53.9%) in 2013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Kazakhstan – China trade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urnover in 2013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$22.7 b  (17%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Imports: $8.3 b (17.1%) against $3.5 b (12.6%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Exports: $14.3 b (17.1%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Problems experienced by Kazakh producers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5520" indent="-24552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ertificatio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5520" indent="-24552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ubsidie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5520" indent="-24552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Larger capitalization of Russian companie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5520" indent="-24552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5520" indent="-24552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ome success stories: automobile industry, textile, computer equipment (?!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5520" indent="-24552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Black marke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5520" indent="-24552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Access to Russian domestic tariffs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0000" indent="-2700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0000" indent="-2700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Promised unification of transport tariffs didn’t take place, instead Kazakh transport companies as of 1 January 2014 pay international tariff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0000" indent="-2700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According to the Treaty, common market for gas, oil and petroleum products by 2025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Preparation for WTO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Delay with Kazakhstan’s accession, confusio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Withstanding crises together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risis spillover effec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9T04:10:18Z</dcterms:created>
  <dc:creator>Nargis Kassenova</dc:creator>
  <dc:description/>
  <dc:language>en-US</dc:language>
  <cp:lastModifiedBy>Nargis Kassenova</cp:lastModifiedBy>
  <dcterms:modified xsi:type="dcterms:W3CDTF">2014-08-22T06:59:14Z</dcterms:modified>
  <cp:revision>24</cp:revision>
  <dc:subject/>
  <dc:title>Is Eurasian economic integration good or bad for Kazakhstan?</dc:title>
</cp:coreProperties>
</file>