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F84-93F1-4FC2-B230-EDB13BF7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585-127D-41D3-9686-5E2665E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319-CA26-40AE-90F1-14C2926F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FE1-854A-423A-9778-1B91B8A2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0C8-8B98-4E0D-8767-5921489C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65B-27F2-4204-8886-9108F0E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FA1-175D-4892-8360-7FA2A48A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7B0-660C-4030-B6F7-6FC7AC3D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178-E638-4F59-9E7F-4D948969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39D-5D59-4249-B85A-E633F9A0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147-079D-4D3D-827C-A6BB3A7C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E58-F65F-4265-B8D1-31F5C3B4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74CC-AD6E-4EEC-86AB-F6B69BF8E5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Arial"/>
              </a:rPr>
              <a:t>Russia and the Post-2012 Climate Regime:</a:t>
            </a:r>
            <a:br>
              <a:rPr sz="40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reign rather than Environment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r Anna Korpp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Finnish Institute of Internation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4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conomic growth and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hy emissions are gr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tandard of living improving – power consumption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introduction of inefficient ol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itch from gas to coal which price is seen as more st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iciency of economy improved due to modernisation less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tin’s goal doubling GDP 2000-2010 – cutting emissions could hinder ach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larionov’s original argument during ratification which was disagreed by many, but now more support as emissions ar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5% of public do not think that public money should be spent on emission re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ge of development of economies -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riticism of the economic growth 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DP growth fuelled by the high oil price – not directly leading to higher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tential to improve energy efficiency – positive impact on the economy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evelopment towards post-industrialise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lobal economic trends slowing down Russian economic grow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position could be challenged: not so difficult or costly to reduce emissions – even beneficial for the econo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ready existing policies which can cu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Western scientific views unlikely to be taken seriously in the Russian deb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articipation of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Kyoto Protocol is not regarded as effective in Russia due to its small impact on global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rge emitters wanted to join, also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role of the US is important, seen as an equal partner for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key actor to encourage Russia to join post-2012 pact - Russia could support views opposing binding targets inside G8 but difficult to break con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goal to cut 50% of emissions by 2050 labelled as ’aspiration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vy of the CDM early start compared to JI: Russia been unfairly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s a Global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estige of Russia – leadership seeking to regain status as a world power like the Soviet Union – showing muscle and independent decisions for instance with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tification of the Kyoto Protocol was a good example – Russia wanted attention and go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mportant that Russian decisions well backed by analysis as bad experiences in the early 1990s when the Soviet structures could not respond international requirements very compet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’s aim to gain a role as a world power could be a way to encourage Russia to join post-2012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st-2012 regime very different for Russia than Kyoto: unlikely to be allocated benefi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incentive to join: Reluctant negotiation partner as no public pressure or environmental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kely to expect space to grow emissions, limiting economic growth politic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- the Russian economic growth argumentation could be challenged – for instance BAU policies can cut emissions signific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nlikely to disagree with the G8 but likely to team up with the other reluctant members of the group - external political pressu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ocus on Russian role as a world power and modernisation of economy rather tha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tact: anna.korppoo@upi-fiia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nd the Kyoto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apse of GHG emissions due to the economic recession in the early-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base year 1990 – target to limit emissions to 1990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rplus allowances i.e. ’hot ai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seemed like a good deal for Russia BUT dissappointment when the US with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mechanisms seem bureau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nce Kyoto economic situation changed a lot as large revenues from fossil fuel exports – Kyoto money seems in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climate politics so far driven rather by economic gains than environment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mpacts of climate change: not just doom and gl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elief that not only negative – also IPCC predicts some positive impacts in the Russian territory: decreased heating, improving agricultural potential, opening sea routes, new oil and gas reserves unco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so negative impacts already at sight: forest fires, spreading diseases, floods, trouble for forestry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hanges in the North may be less relevant as l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fficial line to support the findings of the IP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public pressure and ’climate hype’ – low awareness and the lack of democracy and a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ceptical views and engineering solutions by Russian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on for Poznan: Russia is reluctant to commit to binding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-50% by 2050 – ’aspirational’, NOT basis for distribution of emit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ective reduction target of 25-40% from 1990 level by 2020 ’unreasonabl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ffectiveness and fair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ational conditions and real capabilities of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gally binding’ commitments acceptable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T enforceable and sanct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ssible to adjust on the course of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ective incentives to ful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rket approach: may lead to spe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rouping of countries nee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conomic and social indicators to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4869000"/>
            <a:ext cx="7499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27% below 1990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grown by some 15% by 2006 since the lowest point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GHG growth 2.6% in 2006 – GDP growth 6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92280"/>
            <a:ext cx="28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Russian economy and GHG emissions are growing –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549360"/>
          <a:ext cx="554328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5432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0:43:42Z</dcterms:created>
  <dc:creator>Administrator</dc:creator>
  <dc:description/>
  <dc:language>en-US</dc:language>
  <cp:lastModifiedBy>ville.hulkkonen</cp:lastModifiedBy>
  <dcterms:modified xsi:type="dcterms:W3CDTF">2008-11-25T12:19:01Z</dcterms:modified>
  <cp:revision>59</cp:revision>
  <dc:subject/>
  <dc:title>The Role of Russia in the Post-2012 Climate Politics</dc:title>
</cp:coreProperties>
</file>