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974-1664-4D54-8479-423015A0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CF-8BE0-47A2-8792-C5A16B49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34C-B146-42FD-BEA7-ED83D586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044-9999-4793-88F6-6673F2B5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8DF-D934-4EEE-8B39-23E8AF15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A3F-DE23-4F19-8EEB-A4AD89A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30D-1DE1-4644-8B63-826E5318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DA6-B296-44D8-8D08-0C13E052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942-DBA2-42D3-B089-DD8F323D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1D2-9A22-4B68-AAA7-4723407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972-833B-46C6-9A18-7B289BC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76D-1085-409C-84C8-55C471D6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37A-FE6D-4217-9087-EB2868BAD7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lmastopolitiikka ja yhteistoteutushankkeet Venäjäll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645000"/>
            <a:ext cx="72010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nna Korpp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lkopoliittinen Institu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ialue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2.10.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aasuputkihankk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n yksittäinen kategoria, 80 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stövähennykset halpoja: 0.5-2.5 €/t – voitot suuret riippuen päästöoikeuden hi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isyys perustuu kaasunjakeluputkien kontrolli- ja omistussuhteisi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ikallinen jakelija laskuttaa Gaspromia kaasun määrän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asprom laskuttaa loppukäyttäjää perustuen kaasuun joka on toimitettu putkeen riippumatta siitä kuinka suuri osa siitä pääsee per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datasarjaa päästöistä - baseline: syy olla huoltamatta kaasuputk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asun säästäminen joka tapauksessa taloudellisesti kannattav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’common practice’ hyväksyttävä syy perustella lisäisyyttä – nyt kun hankkeita on jo valmisteltu ei olisi oikein muuttaa sääntöj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uut hanketyypit / vertail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-hankkeet – 31 M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likaivosmetaanihankkeet (CMM) – 21.4 M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n / resurssiensäästöhankkeet teollisuudessa – 14 Mt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nergiateollisuus: turbiinien toiminnan tehokkuus (kaasu, vesivoima), CHP, teollisuuden jätekaasujen käyttö, teräs- ja alumiiniteollis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kolämpöhankkeet – energiansäästö – 1.5 Mt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777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ngelmia JI hankkeiden kan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stitutionaaliset: JI hallinto ei toimi, epäselvyys kenen kanssa neuvotella Venäjän hallinn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loudelliset – transitio: pankkisektori, korruptio, sopimu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ngelmat venäläisen vastapuolen kanssa: dokumentointi voi tuoda esiin uusia ympäristöongelmia, luottokelpoisuusongelmat, ei tietotaitoa ulkomaisten partneria kanssa toimimisesta, omistussuhteiden muutokset, JI-rahan pien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lpailu: Ukrainan menest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JI Venäjällä kuitenkin kiinnost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uri potentia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ER:it, ERU:t halvempia kuin CER: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enäjä strategisesti tärkeä partn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antieteellisesti lähempänä kuin monet CDM-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lemassa olevat liiketoimintasuht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3) Venäjän post-2012 politiik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Venäjän positio - Poz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 -50% 2050 mennessä – ’toivottava’ – 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емый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, mutta EI perusta päästöoikeuksien jakamis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hokkuus ja oikeudenmukaisu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lliset olosuhteet ja maiden todelliset kapasite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aryhmien refo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set ja taloudelliset indikaattorit perus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llektiivinen -25-40% 1990-2020 ’kohtuuton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illisesti sitovat’ taakat mahdollisia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sank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ta tarkistaa tavoitetta toteutuksen ai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hokkaita kannustimia toteuttami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rkkinaohjauskeinot: voi johtaa spekulaati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alouskasvu ja päästö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päästöt kasva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intason parantuminen – sähkönkulutuksen kas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nhan sähköntuotantokapasiteetin ottaminen takaisi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irtyminen kaasusta hiileen jonka hinta on vakaam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louden energiatehokkuus on parantunut talousreformien ja modernisaation edetessä vähemmän kuin odotet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in tavoite kaksinkertaistaa BKT 2000-2010 aikana – päästövähennykset voisivat hankaloittaa poliittisia kasvutavoitt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in alkuperäinen argumentti ratifiointikeskustelun  aikana: monet asiantuntijat olivat eri mieltä mutta nyt enemmän kannatusta kun päästöt kasva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venäläisistä ei ohjaisi verorahoja päästöjen vähentä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ajat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uiden maiden osallistu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a ei pidetä tehokkaan koska sen vaikutus globaaleihin päästöihin on p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urten päästäjien pitää olla mukana, myös kehitysma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A:n rooli tärkeä, pidetään samanarvoisena toimijana kuin Venäj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 tärkeä toimija Venäjän kanssa neuvottelemisessa – Venäjä voisi tukea ilmasto-oppositiota G8:n sisällä mutta tuskin rikkoisin konsens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näjä globaalina toimij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näjän arvovalta – Kremlissä halutaan saavuttaa NL:n kaltainen valta-asema – ’pullistelee’ ja näyttää että voi tehdä itsenäisiä päätöksiä -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ratifiointi hyvä esimerkki – Venäjä halusi huomiota ja näytti mihin pyst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ärkeää että Venäjän päätöksiä tukee analyysi, huonoja kokemuksia1990-luvulta kun hallinnolla ei ollut resursseja objektiiviseen analyysiin – joutui naurunalaiseksi eikä otettu vakav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Ilmastonmuutoksen vaikutuk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ko että ei vain negatiivisia vaikutuksia, positiiviset vaikutukset hallitsevat keskustel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yös IPCC ennustaa joitain positiivisia vaikutuksia Venäjälle: vähentynyt lämmityksen tarve, parantunut maatalouspotentiaali, pohjoiset meritiet, uusia öljy- ja kaasuesiintymiä paljast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tta nettohyötyminen vaatii sopeutu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yös negatiivisia vaikutuksia: metsäpalot, taudit, tul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utoksia harvaan asutetuilla pohjoisilla alueilla saatetaan pitää vähemmän tärkein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ansalaismielipide &amp; Skeptik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ahva skeptikkokeskustelu: ilmastonmuutos luonnollista vaihtelua, voidaan hidastaa muutoin kuin päästöjä vähentämä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knologiausko: ongelmat voidaan ratk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nsalaismielipide ei painosta: ilmasto ’hype’ ei ole saavuttanut Venäjän mediaa vaikka ihmiset uskovatkin että ilmastonmuutos on todellinen uh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hentuva tietoisuus ongelmasta ei ole vielä politisoitunut – tätä halutaan hallinnossa väl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ita tärkeämpiä ongelmia, ilmastonmuutos ei ole akuutti onge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isält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näjä ja ilmastopolitiikka - taus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I Venäjäll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näjän 2012 politi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telmi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uma ilma’ - pehmeä las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umaa ilmaa’ on pidetty ympäristöllisesti  haitallisena Kioton pöytäkirjan vaikuttavuud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nking’ – ylimääräiset päästöoikeudet voisivat antaa Venäjälle pehmeä laskun vaikka se hyväksyisikin mittavammilta näyttäviä päästövähennystavoitt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oiko ’kuumaa ilmaa’ teknisesti siirtää Kioton sopimuksesta post-Kioto sopimuks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nko tämä hyväksyttävää? Entä kuinka kehitysmaat reagoisi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 Päätelmi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I ei ole poliittinen prioriteetti Venäjälle: öljyrahat, JI:n byrokratia, rahat yrityks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TTA luultavasti hyväksyy joitain hankkeita – kaasuputki- ja suuret hankkeet dominoi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lmastonmuutos marginaalinen asia Venäjälle – usko hyötyihin, ei kansalaispainost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eskittyminen talouden kasvuun: ei poliittisesti hyväksyttävää että ilmastosopimus rajoitta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ööpenhaminassa Venäjä vastahakoinen neuvottelukumpp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: Venäjä haluaa olla tärkeä kansainvälinen toim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estävä dialogi tarpeen jotta Venäjä pysyy mukana neuvottelu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ito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mail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 Venäjä ja ilmastopolitiikka - taust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näjä ja Kioton sop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äästöt romahtivat siirtymätalouden myötä 1990-luvun alu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vertailuvuosi 1990 – tavoitteena rajoittaa päästöt 1990 tas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indfall i.e. ’hot ai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 näytti hyvältä sopimukselta Venäjälle MUTTA pettymys kun USA jättäytyi Kioton ulkopuol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mekanismit byrokraatti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neuvotteluiden jälkeen Venäjän talouden tilanne on muuttunut dramaattisesti – tulot polttoaineiden viennistä – Kiotosta saatavat rahat näyttävät pieni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t 27% 1990 tason alla vuonn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t kasvaneet 15% vuoteen 2006 mennessä verrattuna alimpiin päästöihin vuonna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jen kasvu 2.6% vuonna 2006 – BKT kasvu 7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Venäjän päästöt kasvavat – mutta kasvaako BKT nopeamm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int Implementation - yhteistoteu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ollisuusmaiden välillä: pääosin OECD maat ostavat päästöoikeuksia transitiotalouksi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isiä (additional) hankkeita joita ei olisi tapahtunut ilman yhteistoteutusmekanismia – vaikea määrite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hennysyksikkö: Emission Reduction Units (ERUs) – tavoitekausi 2008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i tapaa hyväksyä hankkeita: Track 1 – isäntämaa, Track 2 – YK:n JI Super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n ERU-tarjonta Venäjältä ja Ukrainasta, EU:n double counting –säännöt sekä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acquis communitair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rajoittavat JI hankkeita EU:n uusissa jäsenma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usta-ajatuksena transitiotalouksien modernisaation tu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levaisuus epävarma: tyrehtyykö JI pipe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 JI Venäjäll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JI:n tila Venäjäll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näjä potentiaalisesti suurin ERU:jen myyjä – 65% hankkeista – 85 hanketta – 192 Mt 2008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I-hankkeiden hyväksymisjärjestelmän ongelmat  – ei hyväksyttyjä hankkeita – vielä lokakuussa 200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insäädännön valmistelu kesti kauan, lopputulos oli epäselvä ja vaati lisää lainsäädäntöä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hokkuuskriteerit’ määrittelemättä, lainsäädäntö ei suojele ostaj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näjä on jo menettänyt investointeja – aikaa vain vuoteen 2012 saakka, ja hankkeiden aloittaminen alkaa olla myöhäis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imeisin hidaste johtui uudesta hallituksesta – muutti JI komitean kokoonpan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 hyväksynyt Venäjän päästöinventaariot ja rekisterin – lupa käydä kauppaa ja Track 1 hankkeita – tähän asti hankkeet Track 2 ’kaista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826920" y="646200"/>
          <a:ext cx="741708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46200"/>
                    <a:ext cx="741708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8:32:18Z</dcterms:created>
  <dc:creator>Administrator</dc:creator>
  <dc:description/>
  <dc:language>en-US</dc:language>
  <cp:lastModifiedBy>Tuuli Mäkelä</cp:lastModifiedBy>
  <dcterms:modified xsi:type="dcterms:W3CDTF">2008-11-27T12:58:43Z</dcterms:modified>
  <cp:revision>34</cp:revision>
  <dc:subject/>
  <dc:title>Ilmastopolitiikka ja yhteistoteutushankkeet Venäjällä</dc:title>
</cp:coreProperties>
</file>