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1CFF-D586-44E8-9AD9-F169FE5BA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2C95-9C55-4FD6-94BC-AEF6CAD3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A920-9730-4F13-AB1F-CF8B348B7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E7C0-32DE-42D4-8241-B00697F45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8563-9ED5-4095-8C31-C528BD5F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941E-83C7-4C60-84A0-ADF60C16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A7A7-5C41-4E18-8837-90626FD5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4BC9-6A41-4DE8-928A-C4B7AA44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EE0C-2091-4CA5-BA4C-5801414B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49F4-C088-4C1D-B515-01CBA2D9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2270-CC07-4920-BFEB-0998A3FE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F171-F055-4EE5-AABA-B468D260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C900-EDE5-43CA-90A2-7E34E2949A3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Ilmastopolitiikka ja yhteistoteutushankkeet Venäjäll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3645000"/>
            <a:ext cx="72010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nna Korpp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Ulkopoliittinen Instituu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ähialuesemina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22.10.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Kaasuputkihankk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uurin yksittäinen kategoria, 80 M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äästövähennykset halpoja: 0.5-2.5 €/t – voitot suuret riippuen päästöoikeuden hinna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isäisyys perustuu kaasunjakeluputkien kontrolli- ja omistussuhteisi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aikallinen jakelija laskuttaa Gaspromia kaasun määrän muk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Gasprom laskuttaa loppukäyttäjää perustuen kaasuun joka on toimitettu putkeen riippumatta siitä kuinka suuri osa siitä pääsee peri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i datasarjaa päästöistä - baseline: syy olla huoltamatta kaasuputk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asun säästäminen joka tapauksessa taloudellisesti kannattava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UTTA ’common practice’ hyväksyttävä syy perustella lisäisyyttä – nyt kun hankkeita on jo valmisteltu ei olisi oikein muuttaa sääntöj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Muut hanketyypit / vertail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-hankkeet – 31 Mt (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iilikaivosmetaanihankkeet (CMM) – 21.4 Mt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nergian / resurssiensäästöhankkeet teollisuudessa – 14 Mt (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nergiateollisuus: turbiinien toiminnan tehokkuus (kaasu, vesivoima), CHP, teollisuuden jätekaasujen käyttö, teräs- ja alumiiniteollisu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ukolämpöhankkeet – energiansäästö – 1.5 Mt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11280" y="3716280"/>
            <a:ext cx="777564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ngelmia JI hankkeiden kan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Institutionaaliset: JI hallinto ei toimi, epäselvyys kenen kanssa neuvotella Venäjän hallinno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aloudelliset – transitio: pankkisektori, korruptio, sopimuk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Ongelmat venäläisen vastapuolen kanssa: dokumentointi voi tuoda esiin uusia ympäristöongelmia, luottokelpoisuusongelmat, ei tietotaitoa ulkomaisten partneria kanssa toimimisesta, omistussuhteiden muutokset, JI-rahan pienu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ilpailu: Ukrainan menest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iksi JI Venäjällä kuitenkin kiinnosta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uuri potentia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ER:it, ERU:t halvempia kuin CER: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enäjä strategisesti tärkeä partn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aantieteellisesti lähempänä kuin monet CDM-m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Olemassa olevat liiketoimintasuht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3) Venäjän post-2012 politiik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Venäjän positio - Pozn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G8 -50% 2050 mennessä – ’toivottava’ – ’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лаемый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’, mutta EI perusta päästöoikeuksien jakamis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Tehokkuus ja oikeudenmukaisu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nsalliset olosuhteet ja maiden todelliset kapasiteet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aaryhmien refor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osiaaliset ja taloudelliset indikaattorit perust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Kollektiivinen -25-40% 1990-2020 ’kohtuuton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Laillisesti sitovat’ taakat mahdollisia j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I sanktio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ahdollista tarkistaa tavoitetta toteutuksen aik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ehokkaita kannustimia toteuttamis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arkkinaohjauskeinot: voi johtaa spekulaati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Talouskasvu ja päästö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iksi päästöt kasvav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lintason parantuminen – sähkönkulutuksen kas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anhan sähköntuotantokapasiteetin ottaminen takaisin käyttöö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iirtyminen kaasusta hiileen jonka hinta on vakaamp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alouden energiatehokkuus on parantunut talousreformien ja modernisaation edetessä vähemmän kuin odotetti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utinin tavoite kaksinkertaistaa BKT 2000-2010 aikana – päästövähennykset voisivat hankaloittaa poliittisia kasvutavoitte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llarionovin alkuperäinen argumentti ratifiointikeskustelun  aikana: monet asiantuntijat olivat eri mieltä mutta nyt enemmän kannatusta kun päästöt kasva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45% venäläisistä ei ohjaisi verorahoja päästöjen vähentämi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tage of development of economies -ajatt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Muiden maiden osallistum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Kiotoa ei pidetä tehokkaan koska sen vaikutus globaaleihin päästöihin on pie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Suurten päästäjien pitää olla mukana, myös kehitysmai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USA:n rooli tärkeä, pidetään samanarvoisena toimijana kuin Venäj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G8 tärkeä toimija Venäjän kanssa neuvottelemisessa – Venäjä voisi tukea ilmasto-oppositiota G8:n sisällä mutta tuskin rikkoisin konsensu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Venäjä globaalina toimij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Venäjän arvovalta – Kremlissä halutaan saavuttaa NL:n kaltainen valta-asema – ’pullistelee’ ja näyttää että voi tehdä itsenäisiä päätöksiä - Geo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Kioton ratifiointi hyvä esimerkki – Venäjä halusi huomiota ja näytti mihin pysty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Tärkeää että Venäjän päätöksiä tukee analyysi, huonoja kokemuksia1990-luvulta kun hallinnolla ei ollut resursseja objektiiviseen analyysiin – joutui naurunalaiseksi eikä otettu vakava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Ilmastonmuutoksen vaikutuk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Usko että ei vain negatiivisia vaikutuksia, positiiviset vaikutukset hallitsevat keskustelu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yös IPCC ennustaa joitain positiivisia vaikutuksia Venäjälle: vähentynyt lämmityksen tarve, parantunut maatalouspotentiaali, pohjoiset meritiet, uusia öljy- ja kaasuesiintymiä paljastu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utta nettohyötyminen vaatii sopeutum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yös negatiivisia vaikutuksia: metsäpalot, taudit, tulv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uutoksia harvaan asutetuilla pohjoisilla alueilla saatetaan pitää vähemmän tärkein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Kansalaismielipide &amp; Skeptik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Vahva skeptikkokeskustelu: ilmastonmuutos luonnollista vaihtelua, voidaan hidastaa muutoin kuin päästöjä vähentämäll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Teknologiausko: ongelmat voidaan ratka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Kansalaismielipide ei painosta: ilmasto ’hype’ ei ole saavuttanut Venäjän mediaa vaikka ihmiset uskovatkin että ilmastonmuutos on todellinen uh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Kohentuva tietoisuus ongelmasta ei ole vielä politisoitunut – tätä halutaan hallinnossa välttä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uita tärkeämpiä ongelmia, ilmastonmuutos ei ole akuutti ongel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Sisält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Venäjä ja ilmastopolitiikka - taust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JI Venäjäll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Venäjän 2012 politiik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äätelmi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Kuuma ilma’ - pehmeä lask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Kuumaa ilmaa’ on pidetty ympäristöllisesti  haitallisena Kioton pöytäkirjan vaikuttavuud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Banking’ – ylimääräiset päästöoikeudet voisivat antaa Venäjälle pehmeä laskun vaikka se hyväksyisikin mittavammilta näyttäviä päästövähennystavoitte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Voiko ’kuumaa ilmaa’ teknisesti siirtää Kioton sopimuksesta post-Kioto sopimukse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Onko tämä hyväksyttävää? Entä kuinka kehitysmaat reagoisiv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34900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4) Päätelmi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JI ei ole poliittinen prioriteetti Venäjälle: öljyrahat, JI:n byrokratia, rahat yrityks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UTTA luultavasti hyväksyy joitain hankkeita – kaasuputki- ja suuret hankkeet dominoiv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Ilmastonmuutos marginaalinen asia Venäjälle – usko hyötyihin, ei kansalaispainostu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Keskittyminen talouden kasvuun: ei poliittisesti hyväksyttävää että ilmastosopimus rajoittai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Kööpenhaminassa Venäjä vastahakoinen neuvottelukumpp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G8: Venäjä haluaa olla tärkeä kansainvälinen toim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kestävä dialogi tarpeen jotta Venäjä pysyy mukana neuvottelui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565000"/>
            <a:ext cx="77724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Kiitos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Email: anna.korppoo@upi-fiia.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1) Venäjä ja ilmastopolitiikka - taust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Venäjä ja Kioton sopi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Päästöt romahtivat siirtymätalouden myötä 1990-luvun alus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Kioton vertailuvuosi 1990 – tavoitteena rajoittaa päästöt 1990 taso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Windfall i.e. ’hot ai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Kioto näytti hyvältä sopimukselta Venäjälle MUTTA pettymys kun USA jättäytyi Kioton ulkopuolel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Kioton mekanismit byrokraatti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Kioton neuvotteluiden jälkeen Venäjän talouden tilanne on muuttunut dramaattisesti – tulot polttoaineiden viennistä – Kiotosta saatavat rahat näyttävät pienilt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11280" y="4869000"/>
            <a:ext cx="74991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Päästöt 27% 1990 tason alla vuonna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Päästöt kasvaneet 15% vuoteen 2006 mennessä verrattuna alimpiin päästöihin vuonna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Päästöjen kasvu 2.6% vuonna 2006 – BKT kasvu 7.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692280"/>
            <a:ext cx="28814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Venäjän päästöt kasvavat – mutta kasvaako BKT nopeamm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276720" y="549360"/>
          <a:ext cx="5543280" cy="402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549360"/>
                    <a:ext cx="5543280" cy="40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Joint Implementation - yhteistoteu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eollisuusmaiden välillä: pääosin OECD maat ostavat päästöoikeuksia transitiotalouksi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isäisiä (additional) hankkeita joita ei olisi tapahtunut ilman yhteistoteutusmekanismia – vaikea määritell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ähennysyksikkö: Emission Reduction Units (ERUs) – tavoitekausi 2008-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ksi tapaa hyväksyä hankkeita: Track 1 – isäntämaa, Track 2 – YK:n JI Supervisory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uurin ERU-tarjonta Venäjältä ja Ukrainasta, EU:n double counting –säännöt sekä </a:t>
            </a: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acquis communitaire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rajoittavat JI hankkeita EU:n uusissa jäsenmai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austa-ajatuksena transitiotalouksien modernisaation tuke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ulevaisuus epävarma: tyrehtyykö JI pipel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2) JI Venäjäll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JI:n tila Venäjäll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enäjä potentiaalisesti suurin ERU:jen myyjä – 65% hankkeista – 85 hanketta – 192 Mt 2008-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JI-hankkeiden hyväksymisjärjestelmän ongelmat  – ei hyväksyttyjä hankkeita – vielä lokakuussa 2008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ainsäädännön valmistelu kesti kauan, lopputulos oli epäselvä ja vaati lisää lainsäädäntöä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ehokkuuskriteerit’ määrittelemättä, lainsäädäntö ei suojele ostaja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enäjä on jo menettänyt investointeja – aikaa vain vuoteen 2012 saakka, ja hankkeiden aloittaminen alkaa olla myöhäist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iimeisin hidaste johtui uudesta hallituksesta – muutti JI komitean kokoonpan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YK hyväksynyt Venäjän päästöinventaariot ja rekisterin – lupa käydä kauppaa ja Track 1 hankkeita – tähän asti hankkeet Track 2 ’kaista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826920" y="646200"/>
          <a:ext cx="7417080" cy="515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646200"/>
                    <a:ext cx="7417080" cy="51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08:32:18Z</dcterms:created>
  <dc:creator>Administrator</dc:creator>
  <dc:description/>
  <dc:language>en-US</dc:language>
  <cp:lastModifiedBy>Tuuli Mäkelä</cp:lastModifiedBy>
  <dcterms:modified xsi:type="dcterms:W3CDTF">2008-11-27T12:58:43Z</dcterms:modified>
  <cp:revision>34</cp:revision>
  <dc:subject/>
  <dc:title>Ilmastopolitiikka ja yhteistoteutushankkeet Venäjällä</dc:title>
</cp:coreProperties>
</file>