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7E4E9-C680-4EE3-8D4A-C0AC624B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2226-8900-4A92-BBC8-5D71088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4E4F-8E79-4C56-9369-80791E9E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5C9C-F855-463C-9517-CAAE61E8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B5BB-A6D3-4590-8784-E7D11265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012-F1ED-47AF-B124-4CB37583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97F9-6DA3-49E4-BB91-47FE57D2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0FE-4026-4E7A-8A6C-969D164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C5F3-1DBB-47AD-BF7C-E42E2E3C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0A18-F60B-4724-B020-F1CF862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1F7C-39C4-4524-B285-7CC2D9D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E610-06D2-4494-9435-BB0E01CC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F110-75BB-4FA0-A1E0-A320BA8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C09-27A2-4AA4-BF7F-0810359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567-1B5D-4E2E-B1B2-C687795E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E9B9-EC84-4151-9D27-A18A721B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9B82-1DF4-4A53-ABA6-99757E7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1AE1-53E6-4D1C-BE8E-0302996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E977-E57F-4CA3-8BBA-DDCC8420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75FF-A842-4EF1-AB86-AA2423A2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41B8-70F4-4935-AB72-379F7ED7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C2BC-FACA-4BD1-A965-B25D42B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D2C6-5D9B-4A35-B4B5-523ED67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E9EE-A533-42AF-B0D3-3B9C715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7D37-BA50-488A-9C5E-EB46F18B9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AC8-995D-4DD7-A393-AE1662B5FD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gsafonov@mail.ru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ussia: </a:t>
            </a:r>
            <a:br>
              <a:rPr sz="5400"/>
            </a:b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Post-2012 Climate Policy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2920" y="4797000"/>
            <a:ext cx="712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. George Safon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or, Center for Environmental Eco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 University – Higher School of Econom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the Government of Russian Fed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Kyoto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st economic growth and slowly growing carbon  emissions in 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experience in carbon emission contr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priority of climate in domestic policy making, but recognition that this is a significant issue of international poli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need for maintaining work within 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lear structure of the post-Kyoto international deal by now (role of US, G77&amp;China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HG emission forecasts in Rus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7" descr="forecast-revised"/>
          <p:cNvPicPr/>
          <p:nvPr/>
        </p:nvPicPr>
        <p:blipFill>
          <a:blip r:embed="rId1"/>
          <a:stretch/>
        </p:blipFill>
        <p:spPr>
          <a:xfrm>
            <a:off x="468360" y="1484280"/>
            <a:ext cx="41749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4140360" y="4032360"/>
            <a:ext cx="4785840" cy="2635200"/>
            <a:chOff x="4140360" y="4032360"/>
            <a:chExt cx="4785840" cy="2635200"/>
          </a:xfrm>
        </p:grpSpPr>
        <p:graphicFrame>
          <p:nvGraphicFramePr>
            <p:cNvPr id="107" name="Object 13"/>
            <p:cNvGraphicFramePr/>
            <p:nvPr/>
          </p:nvGraphicFramePr>
          <p:xfrm>
            <a:off x="4140360" y="4032360"/>
            <a:ext cx="4785840" cy="2635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8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40360" y="4032360"/>
                      <a:ext cx="478584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4"/>
            <p:cNvSpPr/>
            <p:nvPr/>
          </p:nvSpPr>
          <p:spPr>
            <a:xfrm>
              <a:off x="4664520" y="4551480"/>
              <a:ext cx="4156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5499000" y="4362120"/>
              <a:ext cx="2530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3300"/>
                  </a:solidFill>
                  <a:latin typeface="Garamond"/>
                </a:rPr>
                <a:t>1990 baseline level of GHG emission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Text Box 16"/>
          <p:cNvSpPr/>
          <p:nvPr/>
        </p:nvSpPr>
        <p:spPr>
          <a:xfrm>
            <a:off x="4788000" y="155736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2 emission forecasts based on Russian Energy Strategy - 20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859280" y="2997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2 emission forecasts based on recent macroeconomic forecasts by Ministry of Economic Develop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7596360" y="371628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858920" y="1773360"/>
            <a:ext cx="36036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24000" y="472428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halleng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now there are NO scenarios with stable or declining GHG emissions in Russi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kely position of Russia at COP15 (2009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5-40% by 2020 is not acceptable for 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0-15% cap is negotiabl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s reachable level, regarding Kyoto surplus and existing potential for emission re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active involvement in negotiations of c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iting for the US and G77&amp;China to take commit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ble mechanisms are welcome, otherwise the Kyoto surplus is not capitaliz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mate policy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I is in place, GIS is considered, no ETS y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priority of policies and measures approach,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h as targeted programs and regulations are adopted, e.g. energy efficiency standards, forestry programs, corporate programs (Gazprom)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stry of Economic Development welcomes business proposals about ETS,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t is not intended to limit GHG emissions itself at the momen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g Russian business is considering ETS as an interesting tool for capitalizing its potential in emission re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ategic document – 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oncept for long-term socio-economic developmen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opted by government in Oct.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goals ar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reach the world leading country level of social and economic development with attractive way of liv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be among 5 leading countries by GDP in the wor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quality is one of the priorities for strategic policy m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y indicators, 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elated to carbon emission regul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tion of impacts on the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T, modern recycling, use of alternative energy, stimulation of GHG emission reduction, 3-7 times lower pollution-intensity by indust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safety and comfor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-fold less cities with high/very high pollution, 4-fold less population living in poor environment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busi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ission markets, certificates for renewable energy, energy efficienc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-fold increase of env.goods and services sec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ection of natural environment  (adaptation?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 indicator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-2,5 times less env. impacts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v. costs may rise up to 1-1,5% of GDP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30-50% of GHG emissions by 20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40-45% less energy intensity of GDP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anks for your attention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. George V. Safono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or, Center for Environmental Economics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te University – Higher School of Economic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gsafonov@mail.r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l. +7 903 779116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19:55Z</dcterms:created>
  <dc:creator>1</dc:creator>
  <dc:description/>
  <dc:language>en-US</dc:language>
  <cp:lastModifiedBy>ville.hulkkonen</cp:lastModifiedBy>
  <dcterms:modified xsi:type="dcterms:W3CDTF">2008-11-25T12:14:10Z</dcterms:modified>
  <cp:revision>39</cp:revision>
  <dc:subject/>
  <dc:title>Russia:  Environmental Policies and Concerns</dc:title>
</cp:coreProperties>
</file>