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274F-C587-4904-82A0-D7D4628C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653EA-ECC7-4512-BDBA-C5D28C44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BF36-763A-43A8-BD46-7DEDF00A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ECA8-D773-43E8-B004-12A79412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C5B7-7AA3-4541-AC53-D7A5C4D0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BAAA-B4DA-47EF-B3A7-952309F7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AE63-4B1B-46C5-AE15-9F563059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5668-718F-4C2B-A356-A1B6C079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63C8-2657-441B-A06A-57F56F76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28C9-B051-49A8-B5EA-6296DCC7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B46A-301F-4B80-836E-1D0EEBD7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9369-781F-460C-A594-BD23381A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74EA-A2C7-450F-AD0E-FA57673D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31B7-410E-4D44-8436-B423D6BA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F646-6865-4EC6-8EEA-2A03A641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A9FE-AA95-4E24-8330-36C4C33B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A869-C787-4621-9286-ACE5379A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32D5-E6DD-44E2-AFCC-3DCA8359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E5CB-95F6-4EE3-8E53-AD3C2E52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DBBA-434A-42D8-98A2-420977A1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994D5-D953-4CEB-9681-CF63C67E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ACCD-C503-4E14-9349-BAE21B8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77BA6-E975-483C-A3C8-1B17C778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92E2-9487-4679-8BB1-DE680943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139-CB28-4565-B455-1C4A5EA2C5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F3F0-B4BB-4B94-86CF-29C3FFA462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gsafonov@mail.ru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Russia: </a:t>
            </a:r>
            <a:br>
              <a:rPr sz="5400"/>
            </a:b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Post-2012 Climate Policy Iss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2920" y="4797000"/>
            <a:ext cx="7129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r. George Safon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rector, Center for Environmental Econom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e University – Higher School of Economi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the Government of Russian Fed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t-Kyoto concer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st economic growth and slowly growing carbon  emissions in Rus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of experience in carbon emission contr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 priority of climate in domestic policy making, but recognition that this is a significant issue of international poli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litical need for maintaining work within 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clear structure of the post-Kyoto international deal by now (role of US, G77&amp;China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HG emission forecasts in Russi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7" descr="forecast-revised"/>
          <p:cNvPicPr/>
          <p:nvPr/>
        </p:nvPicPr>
        <p:blipFill>
          <a:blip r:embed="rId1"/>
          <a:stretch/>
        </p:blipFill>
        <p:spPr>
          <a:xfrm>
            <a:off x="468360" y="1484280"/>
            <a:ext cx="4174920" cy="235440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4140360" y="4032360"/>
            <a:ext cx="4785840" cy="2635200"/>
            <a:chOff x="4140360" y="4032360"/>
            <a:chExt cx="4785840" cy="2635200"/>
          </a:xfrm>
        </p:grpSpPr>
        <p:graphicFrame>
          <p:nvGraphicFramePr>
            <p:cNvPr id="107" name="Object 13"/>
            <p:cNvGraphicFramePr/>
            <p:nvPr/>
          </p:nvGraphicFramePr>
          <p:xfrm>
            <a:off x="4140360" y="4032360"/>
            <a:ext cx="4785840" cy="26352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08" name="Object 1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40360" y="4032360"/>
                      <a:ext cx="478584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Line 14"/>
            <p:cNvSpPr/>
            <p:nvPr/>
          </p:nvSpPr>
          <p:spPr>
            <a:xfrm>
              <a:off x="4664520" y="4551480"/>
              <a:ext cx="4156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5499000" y="4362120"/>
              <a:ext cx="2530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cc3300"/>
                  </a:solidFill>
                  <a:latin typeface="Garamond"/>
                </a:rPr>
                <a:t>1990 baseline level of GHG emissions</a:t>
              </a:r>
              <a:endParaRPr b="0" lang="en-US" sz="1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1" name="Text Box 16"/>
          <p:cNvSpPr/>
          <p:nvPr/>
        </p:nvSpPr>
        <p:spPr>
          <a:xfrm>
            <a:off x="4788000" y="155736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2 emission forecasts based on Russian Energy Strategy - 202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4859280" y="29973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2 emission forecasts based on recent macroeconomic forecasts by Ministry of Economic Develop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7596360" y="371628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4858920" y="1773360"/>
            <a:ext cx="36036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324000" y="4724280"/>
            <a:ext cx="35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Challeng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now there are NO scenarios with stable or declining GHG emissions in Russia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 a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Likely position of Russia at COP15 (2009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25-40% by 2020 is not acceptable for Rus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0-15% cap is negotiable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is reachable level, regarding Kyoto surplus and existing potential for emission re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active involvement in negotiations of ca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iting for the US and G77&amp;China to take commit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xible mechanisms are welcome, otherwise the Kyoto surplus is not capitaliz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mate policy instru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I is in place, GIS is considered, no ETS y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er priority of policies and measures approach,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ch as targeted programs and regulations are adopted, e.g. energy efficiency standards, forestry programs, corporate programs (Gazprom), et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nistry of Economic Development welcomes business proposals about ETS, 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ut is not intended to limit GHG emissions itself at the momen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g Russian business is considering ETS as an interesting tool for capitalizing its potential in emission red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trategic document – </a:t>
            </a:r>
            <a:br>
              <a:rPr sz="40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oncept for long-term socio-economic development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opted by government in Oct.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goals ar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reach the world leading country level of social and economic development with attractive way of liv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be among 5 leading countries by GDP in the worl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vironmental quality is one of the priorities for strategic policy ma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cy indicators, 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related to carbon emission regulatio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tion of impacts on the environ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T, modern recycling, use of alternative energy, stimulation of GHG emission reduction, 3-7 times lower pollution-intensity by indust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vironmental safety and comfor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-fold less cities with high/very high pollution, 4-fold less population living in poor environment, et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vironmental busi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ission markets, certificates for renewable energy, energy efficiency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-fold increase of env.goods and services sec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ection of natural environment  (adaptation?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06800" indent="-406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ther indicator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-2,5 times less env. impacts by 20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v. costs may rise up to 1-1,5% of GDP by 20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30-50% of GHG emissions by 205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5560" indent="-33876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40-45% less energy intensity of GDP by 202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anks for your attention!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r. George V. Safonov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or, Center for Environmental Economics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te University – Higher School of Economic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gsafonov@mail.r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l. +7 903 779116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19:55Z</dcterms:created>
  <dc:creator>1</dc:creator>
  <dc:description/>
  <dc:language>en-US</dc:language>
  <cp:lastModifiedBy>ville.hulkkonen</cp:lastModifiedBy>
  <dcterms:modified xsi:type="dcterms:W3CDTF">2008-11-25T12:14:10Z</dcterms:modified>
  <cp:revision>39</cp:revision>
  <dc:subject/>
  <dc:title>Russia:  Environmental Policies and Concerns</dc:title>
</cp:coreProperties>
</file>